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F8D7-68D4-4B60-A9CB-A1ACDB2FC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4C6A-E3C7-4818-AD77-B59A8587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3611-D6F1-49BA-B6F9-756D8AFFC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7271-BE03-42AE-B51D-059077449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E62B-8D34-4E71-B4E5-EFF808CE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5740-76C8-4D60-B8A1-0A387E4F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169A-3EE1-4275-A90C-EB027A4D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9CFF-7E0F-47FD-BE4D-F8A6D757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87F7-658D-4DF0-8687-98C512F4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22A3-6C03-41D4-B1DA-B5CCCFF7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C30E-D12E-45C8-86D4-6A657FF8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DA61-B122-424C-801C-6D78841B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9AED-6278-49D9-9726-7E16F7078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320920" y="1755720"/>
            <a:ext cx="5254560" cy="2735280"/>
            <a:chOff x="2320920" y="1755720"/>
            <a:chExt cx="5254560" cy="2735280"/>
          </a:xfrm>
        </p:grpSpPr>
        <p:sp>
          <p:nvSpPr>
            <p:cNvPr id="42" name=""/>
            <p:cNvSpPr/>
            <p:nvPr/>
          </p:nvSpPr>
          <p:spPr>
            <a:xfrm>
              <a:off x="2320920" y="1755720"/>
              <a:ext cx="5254560" cy="2735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257640" y="3429000"/>
              <a:ext cx="82440" cy="84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06560" y="3470400"/>
              <a:ext cx="45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218120" y="2801880"/>
              <a:ext cx="106200" cy="10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" name=""/>
            <p:cNvCxnSpPr>
              <a:stCxn id="43" idx="3"/>
              <a:endCxn id="47" idx="1"/>
            </p:cNvCxnSpPr>
            <p:nvPr/>
          </p:nvCxnSpPr>
          <p:spPr>
            <a:xfrm flipV="1">
              <a:off x="3340080" y="2855160"/>
              <a:ext cx="259200" cy="6163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48" name=""/>
            <p:cNvSpPr/>
            <p:nvPr/>
          </p:nvSpPr>
          <p:spPr>
            <a:xfrm>
              <a:off x="3594240" y="4032360"/>
              <a:ext cx="745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" name=""/>
            <p:cNvCxnSpPr>
              <a:stCxn id="43" idx="3"/>
              <a:endCxn id="48" idx="1"/>
            </p:cNvCxnSpPr>
            <p:nvPr/>
          </p:nvCxnSpPr>
          <p:spPr>
            <a:xfrm>
              <a:off x="3340080" y="3471120"/>
              <a:ext cx="254520" cy="608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47" name=""/>
            <p:cNvSpPr/>
            <p:nvPr/>
          </p:nvSpPr>
          <p:spPr>
            <a:xfrm>
              <a:off x="3598920" y="2808360"/>
              <a:ext cx="7308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" name=""/>
            <p:cNvCxnSpPr>
              <a:stCxn id="47" idx="1"/>
              <a:endCxn id="45" idx="2"/>
            </p:cNvCxnSpPr>
            <p:nvPr/>
          </p:nvCxnSpPr>
          <p:spPr>
            <a:xfrm>
              <a:off x="3598920" y="2855160"/>
              <a:ext cx="6195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51" name=""/>
            <p:cNvSpPr/>
            <p:nvPr/>
          </p:nvSpPr>
          <p:spPr>
            <a:xfrm>
              <a:off x="4218120" y="4029120"/>
              <a:ext cx="745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48" idx="1"/>
              <a:endCxn id="51" idx="1"/>
            </p:cNvCxnSpPr>
            <p:nvPr/>
          </p:nvCxnSpPr>
          <p:spPr>
            <a:xfrm flipV="1">
              <a:off x="3594240" y="4075920"/>
              <a:ext cx="624240" cy="36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53" name=""/>
            <p:cNvCxnSpPr>
              <a:stCxn id="45" idx="7"/>
              <a:endCxn id="54" idx="1"/>
            </p:cNvCxnSpPr>
            <p:nvPr/>
          </p:nvCxnSpPr>
          <p:spPr>
            <a:xfrm flipV="1">
              <a:off x="4308840" y="2456640"/>
              <a:ext cx="146160" cy="361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55" name=""/>
            <p:cNvCxnSpPr>
              <a:stCxn id="45" idx="5"/>
              <a:endCxn id="56" idx="1"/>
            </p:cNvCxnSpPr>
            <p:nvPr/>
          </p:nvCxnSpPr>
          <p:spPr>
            <a:xfrm>
              <a:off x="4308840" y="2894040"/>
              <a:ext cx="146160" cy="323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57" name=""/>
            <p:cNvCxnSpPr>
              <a:stCxn id="54" idx="1"/>
              <a:endCxn id="58" idx="1"/>
            </p:cNvCxnSpPr>
            <p:nvPr/>
          </p:nvCxnSpPr>
          <p:spPr>
            <a:xfrm flipV="1">
              <a:off x="4454640" y="2454840"/>
              <a:ext cx="80352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59" name=""/>
            <p:cNvCxnSpPr>
              <a:stCxn id="56" idx="1"/>
              <a:endCxn id="60" idx="1"/>
            </p:cNvCxnSpPr>
            <p:nvPr/>
          </p:nvCxnSpPr>
          <p:spPr>
            <a:xfrm>
              <a:off x="4454640" y="3216960"/>
              <a:ext cx="804960" cy="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1" name=""/>
            <p:cNvSpPr/>
            <p:nvPr/>
          </p:nvSpPr>
          <p:spPr>
            <a:xfrm>
              <a:off x="5361120" y="2984400"/>
              <a:ext cx="745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43560" y="3346560"/>
              <a:ext cx="745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" name=""/>
            <p:cNvCxnSpPr>
              <a:stCxn id="58" idx="3"/>
              <a:endCxn id="64" idx="1"/>
            </p:cNvCxnSpPr>
            <p:nvPr/>
          </p:nvCxnSpPr>
          <p:spPr>
            <a:xfrm flipV="1">
              <a:off x="5332320" y="2237400"/>
              <a:ext cx="124200" cy="2178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65" name=""/>
            <p:cNvCxnSpPr>
              <a:stCxn id="58" idx="3"/>
              <a:endCxn id="66" idx="1"/>
            </p:cNvCxnSpPr>
            <p:nvPr/>
          </p:nvCxnSpPr>
          <p:spPr>
            <a:xfrm>
              <a:off x="5332320" y="2454840"/>
              <a:ext cx="124200" cy="2023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67" name=""/>
            <p:cNvCxnSpPr>
              <a:stCxn id="64" idx="1"/>
              <a:endCxn id="68" idx="0"/>
            </p:cNvCxnSpPr>
            <p:nvPr/>
          </p:nvCxnSpPr>
          <p:spPr>
            <a:xfrm>
              <a:off x="5456160" y="2237400"/>
              <a:ext cx="538920" cy="43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69" name=""/>
            <p:cNvCxnSpPr>
              <a:stCxn id="66" idx="1"/>
              <a:endCxn id="70" idx="0"/>
            </p:cNvCxnSpPr>
            <p:nvPr/>
          </p:nvCxnSpPr>
          <p:spPr>
            <a:xfrm>
              <a:off x="5456160" y="2656800"/>
              <a:ext cx="537120" cy="1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4" name=""/>
            <p:cNvSpPr/>
            <p:nvPr/>
          </p:nvSpPr>
          <p:spPr>
            <a:xfrm>
              <a:off x="5456160" y="2190600"/>
              <a:ext cx="74520" cy="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456160" y="2610000"/>
              <a:ext cx="745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16200000">
              <a:off x="5979240" y="2198880"/>
              <a:ext cx="114120" cy="8424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6200000">
              <a:off x="5977440" y="2615400"/>
              <a:ext cx="114480" cy="8388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449440" y="2932200"/>
              <a:ext cx="102888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urchase Op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449440" y="3760920"/>
              <a:ext cx="1028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o not purchas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659040" y="3886200"/>
              <a:ext cx="781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 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454640" y="3170160"/>
              <a:ext cx="745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454640" y="2409840"/>
              <a:ext cx="745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70480" y="2273400"/>
              <a:ext cx="942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hares = 2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70480" y="3035160"/>
              <a:ext cx="674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hares = 1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443560" y="2070000"/>
              <a:ext cx="942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xercis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443560" y="2475000"/>
              <a:ext cx="63828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o not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xercis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27920" y="2147760"/>
              <a:ext cx="128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    Value = 23-19 –1 = 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27920" y="2557440"/>
              <a:ext cx="876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    Value = -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34040" y="2894040"/>
              <a:ext cx="1225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    Value = 16-19-1 = -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127920" y="3330720"/>
              <a:ext cx="939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    Value = -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257800" y="2413080"/>
              <a:ext cx="74520" cy="83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259240" y="3174840"/>
              <a:ext cx="74880" cy="84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60" idx="3"/>
              <a:endCxn id="83" idx="1"/>
            </p:cNvCxnSpPr>
            <p:nvPr/>
          </p:nvCxnSpPr>
          <p:spPr>
            <a:xfrm flipV="1">
              <a:off x="5334120" y="2996280"/>
              <a:ext cx="122400" cy="221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84" name=""/>
            <p:cNvCxnSpPr>
              <a:stCxn id="60" idx="3"/>
              <a:endCxn id="85" idx="1"/>
            </p:cNvCxnSpPr>
            <p:nvPr/>
          </p:nvCxnSpPr>
          <p:spPr>
            <a:xfrm>
              <a:off x="5334120" y="3216960"/>
              <a:ext cx="120960" cy="2019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86" name=""/>
            <p:cNvCxnSpPr>
              <a:stCxn id="83" idx="1"/>
              <a:endCxn id="87" idx="0"/>
            </p:cNvCxnSpPr>
            <p:nvPr/>
          </p:nvCxnSpPr>
          <p:spPr>
            <a:xfrm>
              <a:off x="5456160" y="2996280"/>
              <a:ext cx="537120" cy="1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88" name=""/>
            <p:cNvCxnSpPr>
              <a:stCxn id="85" idx="1"/>
              <a:endCxn id="89" idx="0"/>
            </p:cNvCxnSpPr>
            <p:nvPr/>
          </p:nvCxnSpPr>
          <p:spPr>
            <a:xfrm>
              <a:off x="5454720" y="3418560"/>
              <a:ext cx="538560" cy="1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83" name=""/>
            <p:cNvSpPr/>
            <p:nvPr/>
          </p:nvSpPr>
          <p:spPr>
            <a:xfrm>
              <a:off x="5456160" y="2949480"/>
              <a:ext cx="745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454720" y="3371760"/>
              <a:ext cx="745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5977800" y="2954880"/>
              <a:ext cx="114120" cy="8388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5977800" y="3377160"/>
              <a:ext cx="114120" cy="8388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443560" y="2825640"/>
              <a:ext cx="942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xercis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443560" y="3240000"/>
              <a:ext cx="63828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o not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xercis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4630680" y="3490920"/>
            <a:ext cx="4443480" cy="3255840"/>
            <a:chOff x="4630680" y="3490920"/>
            <a:chExt cx="4443480" cy="3255840"/>
          </a:xfrm>
        </p:grpSpPr>
        <p:sp>
          <p:nvSpPr>
            <p:cNvPr id="461" name=""/>
            <p:cNvSpPr/>
            <p:nvPr/>
          </p:nvSpPr>
          <p:spPr>
            <a:xfrm>
              <a:off x="4630680" y="3490920"/>
              <a:ext cx="4443480" cy="3255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335560" y="3726000"/>
              <a:ext cx="3490920" cy="2315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300640" y="604188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300640" y="546588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300640" y="488952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00640" y="430200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300640" y="372600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5335560" y="604152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5923080" y="604152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6499080" y="604152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7086600" y="604152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7662960" y="604152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8250120" y="604152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8826480" y="604152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335560" y="6041880"/>
              <a:ext cx="235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570640" y="6041880"/>
              <a:ext cx="234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805360" y="6041880"/>
              <a:ext cx="223920" cy="1800"/>
            </a:xfrm>
            <a:custGeom>
              <a:avLst/>
              <a:gdLst/>
              <a:ahLst/>
              <a:rect l="l" t="t" r="r" b="b"/>
              <a:pathLst>
                <a:path w="141" h="0">
                  <a:moveTo>
                    <a:pt x="0" y="0"/>
                  </a:moveTo>
                  <a:lnTo>
                    <a:pt x="67" y="0"/>
                  </a:lnTo>
                  <a:lnTo>
                    <a:pt x="14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029280" y="6006960"/>
              <a:ext cx="235080" cy="34920"/>
            </a:xfrm>
            <a:custGeom>
              <a:avLst/>
              <a:gdLst/>
              <a:ahLst/>
              <a:rect l="l" t="t" r="r" b="b"/>
              <a:pathLst>
                <a:path w="148" h="22">
                  <a:moveTo>
                    <a:pt x="0" y="22"/>
                  </a:moveTo>
                  <a:lnTo>
                    <a:pt x="74" y="14"/>
                  </a:lnTo>
                  <a:lnTo>
                    <a:pt x="14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264360" y="5911920"/>
              <a:ext cx="234720" cy="95040"/>
            </a:xfrm>
            <a:custGeom>
              <a:avLst/>
              <a:gdLst/>
              <a:ahLst/>
              <a:rect l="l" t="t" r="r" b="b"/>
              <a:pathLst>
                <a:path w="148" h="60">
                  <a:moveTo>
                    <a:pt x="0" y="60"/>
                  </a:moveTo>
                  <a:lnTo>
                    <a:pt x="74" y="30"/>
                  </a:lnTo>
                  <a:lnTo>
                    <a:pt x="14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499080" y="5794200"/>
              <a:ext cx="235080" cy="117720"/>
            </a:xfrm>
            <a:custGeom>
              <a:avLst/>
              <a:gdLst/>
              <a:ahLst/>
              <a:rect l="l" t="t" r="r" b="b"/>
              <a:pathLst>
                <a:path w="148" h="74">
                  <a:moveTo>
                    <a:pt x="0" y="74"/>
                  </a:moveTo>
                  <a:lnTo>
                    <a:pt x="74" y="37"/>
                  </a:lnTo>
                  <a:lnTo>
                    <a:pt x="14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734160" y="5630760"/>
              <a:ext cx="235080" cy="163440"/>
            </a:xfrm>
            <a:custGeom>
              <a:avLst/>
              <a:gdLst/>
              <a:ahLst/>
              <a:rect l="l" t="t" r="r" b="b"/>
              <a:pathLst>
                <a:path w="148" h="103">
                  <a:moveTo>
                    <a:pt x="0" y="103"/>
                  </a:moveTo>
                  <a:lnTo>
                    <a:pt x="74" y="51"/>
                  </a:lnTo>
                  <a:lnTo>
                    <a:pt x="14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969240" y="5465880"/>
              <a:ext cx="223560" cy="164880"/>
            </a:xfrm>
            <a:custGeom>
              <a:avLst/>
              <a:gdLst/>
              <a:ahLst/>
              <a:rect l="l" t="t" r="r" b="b"/>
              <a:pathLst>
                <a:path w="141" h="104">
                  <a:moveTo>
                    <a:pt x="0" y="104"/>
                  </a:moveTo>
                  <a:lnTo>
                    <a:pt x="67" y="52"/>
                  </a:lnTo>
                  <a:lnTo>
                    <a:pt x="14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192800" y="5276880"/>
              <a:ext cx="235080" cy="189000"/>
            </a:xfrm>
            <a:custGeom>
              <a:avLst/>
              <a:gdLst/>
              <a:ahLst/>
              <a:rect l="l" t="t" r="r" b="b"/>
              <a:pathLst>
                <a:path w="148" h="119">
                  <a:moveTo>
                    <a:pt x="0" y="119"/>
                  </a:moveTo>
                  <a:lnTo>
                    <a:pt x="74" y="60"/>
                  </a:lnTo>
                  <a:lnTo>
                    <a:pt x="14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7427880" y="5089680"/>
              <a:ext cx="235080" cy="18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7662960" y="4901760"/>
              <a:ext cx="234720" cy="18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7897680" y="4701960"/>
              <a:ext cx="235080" cy="19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8132760" y="4512960"/>
              <a:ext cx="22392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8356680" y="4325400"/>
              <a:ext cx="234720" cy="18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335560" y="6041880"/>
              <a:ext cx="235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570640" y="6041880"/>
              <a:ext cx="2347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05360" y="6041880"/>
              <a:ext cx="223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029280" y="6041880"/>
              <a:ext cx="235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264360" y="6041880"/>
              <a:ext cx="2347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99080" y="6041880"/>
              <a:ext cx="235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6734160" y="5853240"/>
              <a:ext cx="23508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6969240" y="5653080"/>
              <a:ext cx="223560" cy="200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7192800" y="5465880"/>
              <a:ext cx="235080" cy="18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7427880" y="5265720"/>
              <a:ext cx="235080" cy="200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7662960" y="5078520"/>
              <a:ext cx="234720" cy="18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7897680" y="4889160"/>
              <a:ext cx="23508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8132760" y="4689360"/>
              <a:ext cx="223920" cy="200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8356680" y="4502160"/>
              <a:ext cx="234720" cy="18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171760" y="5959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100120" y="53830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029920" y="48070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029920" y="42195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029920" y="36432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300280" y="6146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852880" y="6146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393600" y="61466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981120" y="61466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557480" y="61466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144640" y="61466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719560" y="61466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900040" y="6394320"/>
              <a:ext cx="218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alue of the underlying asset, (b-1)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16200000">
              <a:off x="4701600" y="4815720"/>
              <a:ext cx="33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630680" y="3490920"/>
              <a:ext cx="4443480" cy="325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107040" y="5106960"/>
              <a:ext cx="107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ption Val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418520" y="5543640"/>
              <a:ext cx="1079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rinsic Val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"/>
          <p:cNvGrpSpPr/>
          <p:nvPr/>
        </p:nvGrpSpPr>
        <p:grpSpPr>
          <a:xfrm>
            <a:off x="4630680" y="3490920"/>
            <a:ext cx="4443480" cy="3255840"/>
            <a:chOff x="4630680" y="3490920"/>
            <a:chExt cx="4443480" cy="3255840"/>
          </a:xfrm>
        </p:grpSpPr>
        <p:sp>
          <p:nvSpPr>
            <p:cNvPr id="521" name=""/>
            <p:cNvSpPr/>
            <p:nvPr/>
          </p:nvSpPr>
          <p:spPr>
            <a:xfrm>
              <a:off x="4630680" y="3490920"/>
              <a:ext cx="4443480" cy="3255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35560" y="3726000"/>
              <a:ext cx="3490920" cy="2315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300640" y="604188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300640" y="526572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300640" y="450216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300640" y="372600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5335560" y="604152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5923080" y="604152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6499080" y="604152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7086600" y="604152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7662960" y="604152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8250120" y="604152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8826480" y="604152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335560" y="6041880"/>
              <a:ext cx="235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570640" y="6041880"/>
              <a:ext cx="234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805360" y="6041880"/>
              <a:ext cx="223920" cy="1800"/>
            </a:xfrm>
            <a:custGeom>
              <a:avLst/>
              <a:gdLst/>
              <a:ahLst/>
              <a:rect l="l" t="t" r="r" b="b"/>
              <a:pathLst>
                <a:path w="141" h="0">
                  <a:moveTo>
                    <a:pt x="0" y="0"/>
                  </a:moveTo>
                  <a:lnTo>
                    <a:pt x="67" y="0"/>
                  </a:lnTo>
                  <a:lnTo>
                    <a:pt x="14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029280" y="6018120"/>
              <a:ext cx="235080" cy="23760"/>
            </a:xfrm>
            <a:custGeom>
              <a:avLst/>
              <a:gdLst/>
              <a:ahLst/>
              <a:rect l="l" t="t" r="r" b="b"/>
              <a:pathLst>
                <a:path w="148" h="15">
                  <a:moveTo>
                    <a:pt x="0" y="15"/>
                  </a:moveTo>
                  <a:lnTo>
                    <a:pt x="74" y="7"/>
                  </a:lnTo>
                  <a:lnTo>
                    <a:pt x="148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264360" y="5959440"/>
              <a:ext cx="234720" cy="58680"/>
            </a:xfrm>
            <a:custGeom>
              <a:avLst/>
              <a:gdLst/>
              <a:ahLst/>
              <a:rect l="l" t="t" r="r" b="b"/>
              <a:pathLst>
                <a:path w="148" h="37">
                  <a:moveTo>
                    <a:pt x="0" y="37"/>
                  </a:moveTo>
                  <a:lnTo>
                    <a:pt x="74" y="22"/>
                  </a:lnTo>
                  <a:lnTo>
                    <a:pt x="14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499080" y="5842080"/>
              <a:ext cx="235080" cy="117360"/>
            </a:xfrm>
            <a:custGeom>
              <a:avLst/>
              <a:gdLst/>
              <a:ahLst/>
              <a:rect l="l" t="t" r="r" b="b"/>
              <a:pathLst>
                <a:path w="148" h="74">
                  <a:moveTo>
                    <a:pt x="0" y="74"/>
                  </a:moveTo>
                  <a:lnTo>
                    <a:pt x="74" y="37"/>
                  </a:lnTo>
                  <a:lnTo>
                    <a:pt x="14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734160" y="5689440"/>
              <a:ext cx="235080" cy="152640"/>
            </a:xfrm>
            <a:custGeom>
              <a:avLst/>
              <a:gdLst/>
              <a:ahLst/>
              <a:rect l="l" t="t" r="r" b="b"/>
              <a:pathLst>
                <a:path w="148" h="96">
                  <a:moveTo>
                    <a:pt x="0" y="96"/>
                  </a:moveTo>
                  <a:lnTo>
                    <a:pt x="74" y="51"/>
                  </a:lnTo>
                  <a:lnTo>
                    <a:pt x="14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969240" y="5489640"/>
              <a:ext cx="223560" cy="199800"/>
            </a:xfrm>
            <a:custGeom>
              <a:avLst/>
              <a:gdLst/>
              <a:ahLst/>
              <a:rect l="l" t="t" r="r" b="b"/>
              <a:pathLst>
                <a:path w="141" h="126">
                  <a:moveTo>
                    <a:pt x="0" y="126"/>
                  </a:moveTo>
                  <a:lnTo>
                    <a:pt x="67" y="66"/>
                  </a:lnTo>
                  <a:lnTo>
                    <a:pt x="14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192800" y="5265720"/>
              <a:ext cx="235080" cy="223920"/>
            </a:xfrm>
            <a:custGeom>
              <a:avLst/>
              <a:gdLst/>
              <a:ahLst/>
              <a:rect l="l" t="t" r="r" b="b"/>
              <a:pathLst>
                <a:path w="148" h="141">
                  <a:moveTo>
                    <a:pt x="0" y="141"/>
                  </a:moveTo>
                  <a:lnTo>
                    <a:pt x="74" y="74"/>
                  </a:lnTo>
                  <a:lnTo>
                    <a:pt x="14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427880" y="5006880"/>
              <a:ext cx="235080" cy="258840"/>
            </a:xfrm>
            <a:custGeom>
              <a:avLst/>
              <a:gdLst/>
              <a:ahLst/>
              <a:rect l="l" t="t" r="r" b="b"/>
              <a:pathLst>
                <a:path w="148" h="163">
                  <a:moveTo>
                    <a:pt x="0" y="163"/>
                  </a:moveTo>
                  <a:lnTo>
                    <a:pt x="74" y="82"/>
                  </a:lnTo>
                  <a:lnTo>
                    <a:pt x="148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7662960" y="4760640"/>
              <a:ext cx="234720" cy="245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7897680" y="4501800"/>
              <a:ext cx="235080" cy="258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8132760" y="4242960"/>
              <a:ext cx="223920" cy="258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8356680" y="3984120"/>
              <a:ext cx="234720" cy="258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335560" y="6041880"/>
              <a:ext cx="235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570640" y="6041880"/>
              <a:ext cx="2347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805360" y="6041880"/>
              <a:ext cx="223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029280" y="6041880"/>
              <a:ext cx="235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264360" y="6041880"/>
              <a:ext cx="2347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499080" y="6041880"/>
              <a:ext cx="235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6734160" y="5783400"/>
              <a:ext cx="235080" cy="258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6969240" y="5524200"/>
              <a:ext cx="223560" cy="258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7192800" y="5265360"/>
              <a:ext cx="235080" cy="258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27880" y="5006520"/>
              <a:ext cx="235080" cy="258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62960" y="4760640"/>
              <a:ext cx="234720" cy="24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7897680" y="4501800"/>
              <a:ext cx="235080" cy="258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8132760" y="4242960"/>
              <a:ext cx="223920" cy="258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8356680" y="3984120"/>
              <a:ext cx="234720" cy="258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171760" y="5959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00120" y="51832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029920" y="44197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29920" y="36432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300280" y="6146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852880" y="6146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393600" y="61466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981120" y="61466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557480" y="61466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144640" y="61466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719560" y="61466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900040" y="6394320"/>
              <a:ext cx="218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alue of the underlying asset, (b-1)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16200000">
              <a:off x="4701600" y="4815720"/>
              <a:ext cx="33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630680" y="3490920"/>
              <a:ext cx="4443480" cy="3255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234200" y="5570640"/>
              <a:ext cx="107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rinsic Val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86280" y="5502240"/>
              <a:ext cx="107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ption Val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"/>
          <p:cNvGrpSpPr/>
          <p:nvPr/>
        </p:nvGrpSpPr>
        <p:grpSpPr>
          <a:xfrm>
            <a:off x="58680" y="3490920"/>
            <a:ext cx="4443480" cy="3259080"/>
            <a:chOff x="58680" y="3490920"/>
            <a:chExt cx="4443480" cy="3259080"/>
          </a:xfrm>
        </p:grpSpPr>
        <p:sp>
          <p:nvSpPr>
            <p:cNvPr id="579" name=""/>
            <p:cNvSpPr/>
            <p:nvPr/>
          </p:nvSpPr>
          <p:spPr>
            <a:xfrm>
              <a:off x="58680" y="3490920"/>
              <a:ext cx="4443480" cy="3259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92280" y="3726000"/>
              <a:ext cx="3563640" cy="23209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57360" y="604692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57360" y="571824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57360" y="537840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57360" y="504972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7360" y="472140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57360" y="439416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57360" y="405288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57360" y="372600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692280" y="604656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1406520" y="604656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2122560" y="604656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2825640" y="604656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3540240" y="604656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4255920" y="604656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92280" y="4052880"/>
              <a:ext cx="21096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903240" y="4452840"/>
              <a:ext cx="211320" cy="39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114560" y="4851360"/>
              <a:ext cx="222120" cy="398520"/>
            </a:xfrm>
            <a:custGeom>
              <a:avLst/>
              <a:gdLst/>
              <a:ahLst/>
              <a:rect l="l" t="t" r="r" b="b"/>
              <a:pathLst>
                <a:path w="140" h="251">
                  <a:moveTo>
                    <a:pt x="0" y="0"/>
                  </a:moveTo>
                  <a:lnTo>
                    <a:pt x="66" y="125"/>
                  </a:lnTo>
                  <a:lnTo>
                    <a:pt x="140" y="25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336680" y="5249880"/>
              <a:ext cx="210960" cy="351000"/>
            </a:xfrm>
            <a:custGeom>
              <a:avLst/>
              <a:gdLst/>
              <a:ahLst/>
              <a:rect l="l" t="t" r="r" b="b"/>
              <a:pathLst>
                <a:path w="133" h="221">
                  <a:moveTo>
                    <a:pt x="0" y="0"/>
                  </a:moveTo>
                  <a:lnTo>
                    <a:pt x="66" y="118"/>
                  </a:lnTo>
                  <a:lnTo>
                    <a:pt x="103" y="170"/>
                  </a:lnTo>
                  <a:lnTo>
                    <a:pt x="133" y="2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547640" y="5600880"/>
              <a:ext cx="211320" cy="210960"/>
            </a:xfrm>
            <a:custGeom>
              <a:avLst/>
              <a:gdLst/>
              <a:ahLst/>
              <a:rect l="l" t="t" r="r" b="b"/>
              <a:pathLst>
                <a:path w="133" h="133">
                  <a:moveTo>
                    <a:pt x="0" y="0"/>
                  </a:moveTo>
                  <a:lnTo>
                    <a:pt x="29" y="45"/>
                  </a:lnTo>
                  <a:lnTo>
                    <a:pt x="66" y="74"/>
                  </a:lnTo>
                  <a:lnTo>
                    <a:pt x="133" y="13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758960" y="5811840"/>
              <a:ext cx="210960" cy="117360"/>
            </a:xfrm>
            <a:custGeom>
              <a:avLst/>
              <a:gdLst/>
              <a:ahLst/>
              <a:rect l="l" t="t" r="r" b="b"/>
              <a:pathLst>
                <a:path w="133" h="74">
                  <a:moveTo>
                    <a:pt x="0" y="0"/>
                  </a:moveTo>
                  <a:lnTo>
                    <a:pt x="66" y="45"/>
                  </a:lnTo>
                  <a:lnTo>
                    <a:pt x="133" y="7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969920" y="5929200"/>
              <a:ext cx="222480" cy="58680"/>
            </a:xfrm>
            <a:custGeom>
              <a:avLst/>
              <a:gdLst/>
              <a:ahLst/>
              <a:rect l="l" t="t" r="r" b="b"/>
              <a:pathLst>
                <a:path w="140" h="37">
                  <a:moveTo>
                    <a:pt x="0" y="0"/>
                  </a:moveTo>
                  <a:lnTo>
                    <a:pt x="66" y="22"/>
                  </a:lnTo>
                  <a:lnTo>
                    <a:pt x="140" y="3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192400" y="5987880"/>
              <a:ext cx="210960" cy="24120"/>
            </a:xfrm>
            <a:custGeom>
              <a:avLst/>
              <a:gdLst/>
              <a:ahLst/>
              <a:rect l="l" t="t" r="r" b="b"/>
              <a:pathLst>
                <a:path w="133" h="15">
                  <a:moveTo>
                    <a:pt x="0" y="0"/>
                  </a:moveTo>
                  <a:lnTo>
                    <a:pt x="66" y="7"/>
                  </a:lnTo>
                  <a:lnTo>
                    <a:pt x="133" y="1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403360" y="6012000"/>
              <a:ext cx="211320" cy="23760"/>
            </a:xfrm>
            <a:custGeom>
              <a:avLst/>
              <a:gdLst/>
              <a:ahLst/>
              <a:rect l="l" t="t" r="r" b="b"/>
              <a:pathLst>
                <a:path w="133" h="15">
                  <a:moveTo>
                    <a:pt x="0" y="0"/>
                  </a:moveTo>
                  <a:lnTo>
                    <a:pt x="66" y="7"/>
                  </a:lnTo>
                  <a:lnTo>
                    <a:pt x="133" y="1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614680" y="6035760"/>
              <a:ext cx="210960" cy="1440"/>
            </a:xfrm>
            <a:custGeom>
              <a:avLst/>
              <a:gdLst/>
              <a:ahLst/>
              <a:rect l="l" t="t" r="r" b="b"/>
              <a:pathLst>
                <a:path w="133" h="0">
                  <a:moveTo>
                    <a:pt x="0" y="0"/>
                  </a:moveTo>
                  <a:lnTo>
                    <a:pt x="66" y="0"/>
                  </a:lnTo>
                  <a:lnTo>
                    <a:pt x="13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825640" y="6035760"/>
              <a:ext cx="222480" cy="11160"/>
            </a:xfrm>
            <a:custGeom>
              <a:avLst/>
              <a:gdLst/>
              <a:ahLst/>
              <a:rect l="l" t="t" r="r" b="b"/>
              <a:pathLst>
                <a:path w="140" h="7">
                  <a:moveTo>
                    <a:pt x="0" y="0"/>
                  </a:moveTo>
                  <a:lnTo>
                    <a:pt x="66" y="0"/>
                  </a:lnTo>
                  <a:lnTo>
                    <a:pt x="14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048120" y="6046920"/>
              <a:ext cx="210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259080" y="6046920"/>
              <a:ext cx="211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470400" y="6046920"/>
              <a:ext cx="210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92280" y="4052880"/>
              <a:ext cx="210960" cy="39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903240" y="4452840"/>
              <a:ext cx="211320" cy="39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114560" y="4851360"/>
              <a:ext cx="222120" cy="39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336680" y="5249880"/>
              <a:ext cx="210960" cy="39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547640" y="5648400"/>
              <a:ext cx="211320" cy="39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758960" y="6046920"/>
              <a:ext cx="210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969920" y="6046920"/>
              <a:ext cx="222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192400" y="6046920"/>
              <a:ext cx="210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403360" y="6046920"/>
              <a:ext cx="211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614680" y="6046920"/>
              <a:ext cx="210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825640" y="6046920"/>
              <a:ext cx="222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048120" y="6046920"/>
              <a:ext cx="210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259080" y="6046920"/>
              <a:ext cx="211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470400" y="6046920"/>
              <a:ext cx="210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26680" y="5964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26680" y="563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56840" y="52959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56840" y="49672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56840" y="4640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56840" y="43117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56840" y="3971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56840" y="3643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57000" y="6151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336320" y="6151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050560" y="6151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754000" y="6151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470040" y="6151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149000" y="61516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301040" y="6399360"/>
              <a:ext cx="2232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Value of the underlying asset,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(b-1)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rot="16200000">
              <a:off x="128160" y="4823640"/>
              <a:ext cx="33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8680" y="3490920"/>
              <a:ext cx="4443480" cy="3259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04880" y="5749920"/>
              <a:ext cx="107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rinsic Val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35280" y="5586480"/>
              <a:ext cx="1079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ption Val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"/>
          <p:cNvGrpSpPr/>
          <p:nvPr/>
        </p:nvGrpSpPr>
        <p:grpSpPr>
          <a:xfrm>
            <a:off x="2444760" y="1679400"/>
            <a:ext cx="4406760" cy="3240360"/>
            <a:chOff x="2444760" y="1679400"/>
            <a:chExt cx="4406760" cy="3240360"/>
          </a:xfrm>
        </p:grpSpPr>
        <p:sp>
          <p:nvSpPr>
            <p:cNvPr id="643" name=""/>
            <p:cNvSpPr/>
            <p:nvPr/>
          </p:nvSpPr>
          <p:spPr>
            <a:xfrm>
              <a:off x="2444760" y="1679400"/>
              <a:ext cx="4406760" cy="3240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257640" y="3429000"/>
              <a:ext cx="74520" cy="84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806560" y="3470400"/>
              <a:ext cx="45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218120" y="2805120"/>
              <a:ext cx="106200" cy="108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7" name=""/>
            <p:cNvCxnSpPr>
              <a:stCxn id="644" idx="3"/>
              <a:endCxn id="648" idx="1"/>
            </p:cNvCxnSpPr>
            <p:nvPr/>
          </p:nvCxnSpPr>
          <p:spPr>
            <a:xfrm flipV="1">
              <a:off x="3331800" y="2848680"/>
              <a:ext cx="267120" cy="623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49" name=""/>
            <p:cNvSpPr/>
            <p:nvPr/>
          </p:nvSpPr>
          <p:spPr>
            <a:xfrm>
              <a:off x="3594240" y="4032360"/>
              <a:ext cx="745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0" name=""/>
            <p:cNvCxnSpPr>
              <a:stCxn id="644" idx="3"/>
              <a:endCxn id="649" idx="1"/>
            </p:cNvCxnSpPr>
            <p:nvPr/>
          </p:nvCxnSpPr>
          <p:spPr>
            <a:xfrm>
              <a:off x="3332160" y="3471480"/>
              <a:ext cx="262800" cy="608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48" name=""/>
            <p:cNvSpPr/>
            <p:nvPr/>
          </p:nvSpPr>
          <p:spPr>
            <a:xfrm>
              <a:off x="3598920" y="2801880"/>
              <a:ext cx="7308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8" idx="1"/>
              <a:endCxn id="646" idx="2"/>
            </p:cNvCxnSpPr>
            <p:nvPr/>
          </p:nvCxnSpPr>
          <p:spPr>
            <a:xfrm>
              <a:off x="3598920" y="2849040"/>
              <a:ext cx="619920" cy="10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52" name=""/>
            <p:cNvSpPr/>
            <p:nvPr/>
          </p:nvSpPr>
          <p:spPr>
            <a:xfrm>
              <a:off x="4218120" y="4029120"/>
              <a:ext cx="745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3" name=""/>
            <p:cNvCxnSpPr>
              <a:stCxn id="649" idx="1"/>
              <a:endCxn id="652" idx="1"/>
            </p:cNvCxnSpPr>
            <p:nvPr/>
          </p:nvCxnSpPr>
          <p:spPr>
            <a:xfrm flipV="1">
              <a:off x="3593880" y="4075920"/>
              <a:ext cx="624600" cy="39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654" name=""/>
            <p:cNvCxnSpPr>
              <a:stCxn id="646" idx="7"/>
              <a:endCxn id="655" idx="1"/>
            </p:cNvCxnSpPr>
            <p:nvPr/>
          </p:nvCxnSpPr>
          <p:spPr>
            <a:xfrm flipV="1">
              <a:off x="4308480" y="2457000"/>
              <a:ext cx="146880" cy="3643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656" name=""/>
            <p:cNvCxnSpPr>
              <a:stCxn id="646" idx="5"/>
              <a:endCxn id="657" idx="1"/>
            </p:cNvCxnSpPr>
            <p:nvPr/>
          </p:nvCxnSpPr>
          <p:spPr>
            <a:xfrm>
              <a:off x="4308480" y="2896920"/>
              <a:ext cx="146880" cy="321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658" name=""/>
            <p:cNvCxnSpPr>
              <a:stCxn id="655" idx="1"/>
              <a:endCxn id="659" idx="1"/>
            </p:cNvCxnSpPr>
            <p:nvPr/>
          </p:nvCxnSpPr>
          <p:spPr>
            <a:xfrm flipV="1">
              <a:off x="4454280" y="2455560"/>
              <a:ext cx="80388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660" name=""/>
            <p:cNvCxnSpPr>
              <a:stCxn id="657" idx="1"/>
            </p:cNvCxnSpPr>
            <p:nvPr/>
          </p:nvCxnSpPr>
          <p:spPr>
            <a:xfrm>
              <a:off x="4454280" y="3217680"/>
              <a:ext cx="7959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661" name=""/>
            <p:cNvCxnSpPr>
              <a:stCxn id="659" idx="3"/>
              <a:endCxn id="662" idx="1"/>
            </p:cNvCxnSpPr>
            <p:nvPr/>
          </p:nvCxnSpPr>
          <p:spPr>
            <a:xfrm flipV="1">
              <a:off x="5332320" y="2238120"/>
              <a:ext cx="124560" cy="218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663" name=""/>
            <p:cNvCxnSpPr>
              <a:stCxn id="659" idx="3"/>
              <a:endCxn id="664" idx="1"/>
            </p:cNvCxnSpPr>
            <p:nvPr/>
          </p:nvCxnSpPr>
          <p:spPr>
            <a:xfrm>
              <a:off x="5332320" y="2455920"/>
              <a:ext cx="124560" cy="2023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665" name=""/>
            <p:cNvCxnSpPr>
              <a:stCxn id="662" idx="1"/>
              <a:endCxn id="666" idx="0"/>
            </p:cNvCxnSpPr>
            <p:nvPr/>
          </p:nvCxnSpPr>
          <p:spPr>
            <a:xfrm>
              <a:off x="5456160" y="2238120"/>
              <a:ext cx="889920" cy="5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667" name=""/>
            <p:cNvCxnSpPr>
              <a:stCxn id="664" idx="1"/>
              <a:endCxn id="668" idx="0"/>
            </p:cNvCxnSpPr>
            <p:nvPr/>
          </p:nvCxnSpPr>
          <p:spPr>
            <a:xfrm>
              <a:off x="5456160" y="2657520"/>
              <a:ext cx="88992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62" name=""/>
            <p:cNvSpPr/>
            <p:nvPr/>
          </p:nvSpPr>
          <p:spPr>
            <a:xfrm>
              <a:off x="5456160" y="2190600"/>
              <a:ext cx="74520" cy="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456160" y="2610000"/>
              <a:ext cx="745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16200000">
              <a:off x="6331680" y="2198880"/>
              <a:ext cx="114120" cy="8424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rot="16200000">
              <a:off x="6331680" y="2615400"/>
              <a:ext cx="114480" cy="8424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449440" y="2932200"/>
              <a:ext cx="1028880" cy="4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irst stage investmen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-$67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773440" y="3760920"/>
              <a:ext cx="70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o not invest in first stag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659040" y="3886200"/>
              <a:ext cx="781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$ 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454640" y="3170160"/>
              <a:ext cx="745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454640" y="2409840"/>
              <a:ext cx="745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470480" y="2273400"/>
              <a:ext cx="942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utcome goo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470480" y="3035160"/>
              <a:ext cx="884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utcome poo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443560" y="2070000"/>
              <a:ext cx="942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vest in 2</a:t>
              </a:r>
              <a:r>
                <a:rPr b="0" lang="en-US" sz="7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stag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433840" y="2478240"/>
              <a:ext cx="809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o not inves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257800" y="2413080"/>
              <a:ext cx="74520" cy="83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409920" y="4424400"/>
              <a:ext cx="74520" cy="84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818240" y="4402080"/>
              <a:ext cx="106200" cy="108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619440" y="4343400"/>
              <a:ext cx="743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cis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000760" y="4334040"/>
              <a:ext cx="742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v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262404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1687680" y="2089080"/>
            <a:ext cx="5254560" cy="2516400"/>
            <a:chOff x="1687680" y="2089080"/>
            <a:chExt cx="5254560" cy="2516400"/>
          </a:xfrm>
        </p:grpSpPr>
        <p:sp>
          <p:nvSpPr>
            <p:cNvPr id="682" name=""/>
            <p:cNvSpPr/>
            <p:nvPr/>
          </p:nvSpPr>
          <p:spPr>
            <a:xfrm>
              <a:off x="5508720" y="3121200"/>
              <a:ext cx="1001520" cy="322200"/>
            </a:xfrm>
            <a:custGeom>
              <a:avLst/>
              <a:gdLst/>
              <a:ahLst/>
              <a:rect l="l" t="t" r="r" b="b"/>
              <a:pathLst>
                <a:path w="1263" h="405">
                  <a:moveTo>
                    <a:pt x="0" y="2"/>
                  </a:moveTo>
                  <a:lnTo>
                    <a:pt x="0" y="405"/>
                  </a:lnTo>
                  <a:lnTo>
                    <a:pt x="1263" y="403"/>
                  </a:lnTo>
                  <a:lnTo>
                    <a:pt x="126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622760" y="3781440"/>
              <a:ext cx="824040" cy="32076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909880" y="3189240"/>
              <a:ext cx="865080" cy="18900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687680" y="2089080"/>
              <a:ext cx="5254560" cy="2516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870280" y="3589200"/>
              <a:ext cx="1085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termediate market: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77840" y="3708360"/>
              <a:ext cx="1067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ncentrate may b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982960" y="3825720"/>
              <a:ext cx="775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old to custo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893680" y="3943440"/>
              <a:ext cx="991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melters or traders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031480" y="3159000"/>
              <a:ext cx="415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pp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933920" y="3290760"/>
              <a:ext cx="607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sour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909880" y="3189240"/>
              <a:ext cx="865080" cy="189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24080" y="3213000"/>
              <a:ext cx="48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lot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622760" y="3781440"/>
              <a:ext cx="824040" cy="320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658040" y="3792600"/>
              <a:ext cx="770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melting and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777200" y="3924360"/>
              <a:ext cx="46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fin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508720" y="3121200"/>
              <a:ext cx="1001520" cy="322200"/>
            </a:xfrm>
            <a:custGeom>
              <a:avLst/>
              <a:gdLst/>
              <a:ahLst/>
              <a:rect l="l" t="t" r="r" b="b"/>
              <a:pathLst>
                <a:path w="1263" h="405">
                  <a:moveTo>
                    <a:pt x="0" y="2"/>
                  </a:moveTo>
                  <a:lnTo>
                    <a:pt x="0" y="405"/>
                  </a:lnTo>
                  <a:lnTo>
                    <a:pt x="1263" y="403"/>
                  </a:lnTo>
                  <a:lnTo>
                    <a:pt x="126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613840" y="3133800"/>
              <a:ext cx="793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pper Metal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722560" y="3265560"/>
              <a:ext cx="52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 Mark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622760" y="2513160"/>
              <a:ext cx="822240" cy="3204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1" name=""/>
            <p:cNvGrpSpPr/>
            <p:nvPr/>
          </p:nvGrpSpPr>
          <p:grpSpPr>
            <a:xfrm>
              <a:off x="4135320" y="2716200"/>
              <a:ext cx="7920" cy="1120680"/>
              <a:chOff x="4135320" y="2716200"/>
              <a:chExt cx="7920" cy="1120680"/>
            </a:xfrm>
          </p:grpSpPr>
          <p:sp>
            <p:nvSpPr>
              <p:cNvPr id="702" name=""/>
              <p:cNvSpPr/>
              <p:nvPr/>
            </p:nvSpPr>
            <p:spPr>
              <a:xfrm>
                <a:off x="4137120" y="38307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4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137120" y="38163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137120" y="38019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5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137120" y="37893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4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137120" y="37749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137120" y="37609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5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137120" y="37479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4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137120" y="373392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4137120" y="37195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5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137120" y="370692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4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4137120" y="369252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4137120" y="36781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5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137120" y="366552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4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137120" y="365112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1" y="7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137120" y="36370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1" y="7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4137120" y="362412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5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6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4137120" y="361008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4"/>
                    </a:moveTo>
                    <a:lnTo>
                      <a:pt x="1" y="7"/>
                    </a:lnTo>
                    <a:lnTo>
                      <a:pt x="4" y="9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4137120" y="35956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1" y="7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4137120" y="358308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5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6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4137120" y="356868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4"/>
                    </a:moveTo>
                    <a:lnTo>
                      <a:pt x="1" y="7"/>
                    </a:lnTo>
                    <a:lnTo>
                      <a:pt x="4" y="9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137120" y="35542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1" y="7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4135320" y="35416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5"/>
                    </a:moveTo>
                    <a:lnTo>
                      <a:pt x="2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4135320" y="35272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4"/>
                    </a:moveTo>
                    <a:lnTo>
                      <a:pt x="2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4135320" y="35132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2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4135320" y="35002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5"/>
                    </a:moveTo>
                    <a:lnTo>
                      <a:pt x="2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135320" y="3486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4"/>
                    </a:moveTo>
                    <a:lnTo>
                      <a:pt x="2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135320" y="34718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135320" y="34592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5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135320" y="34448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4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135320" y="34304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135320" y="34178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5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135320" y="34034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4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135320" y="3389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135320" y="33764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5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135320" y="336240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4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4135320" y="3348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135320" y="333540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5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4135320" y="33210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4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4135320" y="3306600"/>
                <a:ext cx="7920" cy="82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4135320" y="32940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5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135320" y="32796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4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4135320" y="3265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4135320" y="325296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5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135320" y="323856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4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135320" y="3224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135320" y="321156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5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4135320" y="319716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4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135320" y="3182760"/>
                <a:ext cx="7920" cy="82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4"/>
                    </a:moveTo>
                    <a:lnTo>
                      <a:pt x="1" y="7"/>
                    </a:lnTo>
                    <a:lnTo>
                      <a:pt x="4" y="9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4135320" y="317016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4135320" y="315612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5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135320" y="3141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4"/>
                    </a:moveTo>
                    <a:lnTo>
                      <a:pt x="1" y="7"/>
                    </a:lnTo>
                    <a:lnTo>
                      <a:pt x="4" y="9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135320" y="312912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135320" y="31147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5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135320" y="3100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4"/>
                    </a:moveTo>
                    <a:lnTo>
                      <a:pt x="1" y="7"/>
                    </a:lnTo>
                    <a:lnTo>
                      <a:pt x="4" y="9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4135320" y="30877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1" y="7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4135320" y="3073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5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6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135320" y="3059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4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6" y="8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135320" y="3046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1" y="7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135320" y="30322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5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6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4135320" y="3017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4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6" y="8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4135320" y="30052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1" y="7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135320" y="2990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5"/>
                    </a:moveTo>
                    <a:lnTo>
                      <a:pt x="2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135320" y="2976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4"/>
                    </a:moveTo>
                    <a:lnTo>
                      <a:pt x="2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135320" y="2963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2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135320" y="2949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5"/>
                    </a:moveTo>
                    <a:lnTo>
                      <a:pt x="2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135320" y="2936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4"/>
                    </a:moveTo>
                    <a:lnTo>
                      <a:pt x="2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135320" y="2922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135320" y="2908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5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135320" y="2895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4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135320" y="2881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135320" y="2867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5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135320" y="28544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4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135320" y="2840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135320" y="2825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5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135320" y="2813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4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4135320" y="2798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135320" y="2784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5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135320" y="2771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4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135320" y="2757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4135320" y="2743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5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4135320" y="27306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5"/>
                    </a:moveTo>
                    <a:lnTo>
                      <a:pt x="1" y="8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4135320" y="2716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4"/>
                    </a:moveTo>
                    <a:lnTo>
                      <a:pt x="1" y="7"/>
                    </a:lnTo>
                    <a:lnTo>
                      <a:pt x="4" y="9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4" name=""/>
            <p:cNvSpPr/>
            <p:nvPr/>
          </p:nvSpPr>
          <p:spPr>
            <a:xfrm>
              <a:off x="4622760" y="2513160"/>
              <a:ext cx="822240" cy="320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805640" y="2598840"/>
              <a:ext cx="48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prum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590920" y="3227400"/>
              <a:ext cx="266760" cy="139680"/>
            </a:xfrm>
            <a:prstGeom prst="rightArrow">
              <a:avLst>
                <a:gd name="adj1" fmla="val 50000"/>
                <a:gd name="adj2" fmla="val 47745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7760" y="3218040"/>
              <a:ext cx="266400" cy="139680"/>
            </a:xfrm>
            <a:prstGeom prst="rightArrow">
              <a:avLst>
                <a:gd name="adj1" fmla="val 50000"/>
                <a:gd name="adj2" fmla="val 47680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203720" y="2552760"/>
              <a:ext cx="301680" cy="5205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520560"/>
                <a:gd name="textAreaBottom" fmla="*/ 520920 h 52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4219560" y="3568680"/>
              <a:ext cx="301680" cy="5205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360 h 520560"/>
                <a:gd name="textAreaBottom" fmla="*/ 521280 h 52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 rot="5400000">
              <a:off x="5762520" y="3568680"/>
              <a:ext cx="301680" cy="52056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520560"/>
                <a:gd name="textAreaBottom" fmla="*/ 520920 h 52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670" stAng="10800000" swAng="5400000"/>
                  <a:lnTo>
                    <a:pt x="15006" y="3490"/>
                  </a:lnTo>
                  <a:lnTo>
                    <a:pt x="15006" y="0"/>
                  </a:lnTo>
                  <a:lnTo>
                    <a:pt x="21600" y="6079"/>
                  </a:lnTo>
                  <a:lnTo>
                    <a:pt x="15006" y="12158"/>
                  </a:lnTo>
                  <a:lnTo>
                    <a:pt x="15006" y="8668"/>
                  </a:lnTo>
                  <a:lnTo>
                    <a:pt x="12427" y="8668"/>
                  </a:lnTo>
                  <a:arcTo wR="7249" hR="3492" stAng="16200000" swAng="-5400000"/>
                  <a:lnTo>
                    <a:pt x="517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 flipV="1" rot="16200000">
              <a:off x="5762520" y="2536920"/>
              <a:ext cx="301680" cy="52056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360 h 520560"/>
                <a:gd name="textAreaBottom" fmla="*/ 521280 h 52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670" stAng="10800000" swAng="5400000"/>
                  <a:lnTo>
                    <a:pt x="15006" y="3490"/>
                  </a:lnTo>
                  <a:lnTo>
                    <a:pt x="15006" y="0"/>
                  </a:lnTo>
                  <a:lnTo>
                    <a:pt x="21600" y="6079"/>
                  </a:lnTo>
                  <a:lnTo>
                    <a:pt x="15006" y="12158"/>
                  </a:lnTo>
                  <a:lnTo>
                    <a:pt x="15006" y="8668"/>
                  </a:lnTo>
                  <a:lnTo>
                    <a:pt x="12427" y="8668"/>
                  </a:lnTo>
                  <a:arcTo wR="7249" hR="3492" stAng="16200000" swAng="-5400000"/>
                  <a:lnTo>
                    <a:pt x="517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"/>
          <p:cNvGrpSpPr/>
          <p:nvPr/>
        </p:nvGrpSpPr>
        <p:grpSpPr>
          <a:xfrm>
            <a:off x="0" y="3287880"/>
            <a:ext cx="5065560" cy="3570120"/>
            <a:chOff x="0" y="3287880"/>
            <a:chExt cx="5065560" cy="3570120"/>
          </a:xfrm>
        </p:grpSpPr>
        <p:sp>
          <p:nvSpPr>
            <p:cNvPr id="793" name=""/>
            <p:cNvSpPr/>
            <p:nvPr/>
          </p:nvSpPr>
          <p:spPr>
            <a:xfrm>
              <a:off x="0" y="3287880"/>
              <a:ext cx="5065560" cy="3570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870120" y="3564000"/>
              <a:ext cx="3886200" cy="25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70120" y="3564000"/>
              <a:ext cx="3886200" cy="25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870120" y="3564000"/>
              <a:ext cx="2880" cy="256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826920" y="6124680"/>
              <a:ext cx="88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26920" y="5800680"/>
              <a:ext cx="88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26920" y="5491080"/>
              <a:ext cx="88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26920" y="5167440"/>
              <a:ext cx="88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26920" y="4844880"/>
              <a:ext cx="88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826920" y="4521240"/>
              <a:ext cx="88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826920" y="4211640"/>
              <a:ext cx="88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826920" y="3887640"/>
              <a:ext cx="88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826920" y="3564000"/>
              <a:ext cx="88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870120" y="6079680"/>
              <a:ext cx="288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1415880" y="6079680"/>
              <a:ext cx="180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1944720" y="6079680"/>
              <a:ext cx="144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2489040" y="6079680"/>
              <a:ext cx="180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3033720" y="6079680"/>
              <a:ext cx="144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3562200" y="6079680"/>
              <a:ext cx="180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4108320" y="6079680"/>
              <a:ext cx="180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4651200" y="6079680"/>
              <a:ext cx="180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866880" y="5722920"/>
              <a:ext cx="109440" cy="69840"/>
            </a:xfrm>
            <a:custGeom>
              <a:avLst/>
              <a:gdLst/>
              <a:ahLst/>
              <a:rect l="l" t="t" r="r" b="b"/>
              <a:pathLst>
                <a:path w="69" h="44">
                  <a:moveTo>
                    <a:pt x="0" y="36"/>
                  </a:moveTo>
                  <a:lnTo>
                    <a:pt x="5" y="44"/>
                  </a:lnTo>
                  <a:lnTo>
                    <a:pt x="69" y="7"/>
                  </a:lnTo>
                  <a:lnTo>
                    <a:pt x="65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973080" y="5721480"/>
              <a:ext cx="119160" cy="15840"/>
            </a:xfrm>
            <a:custGeom>
              <a:avLst/>
              <a:gdLst/>
              <a:ahLst/>
              <a:rect l="l" t="t" r="r" b="b"/>
              <a:pathLst>
                <a:path w="75" h="10">
                  <a:moveTo>
                    <a:pt x="0" y="0"/>
                  </a:moveTo>
                  <a:lnTo>
                    <a:pt x="0" y="9"/>
                  </a:lnTo>
                  <a:lnTo>
                    <a:pt x="75" y="10"/>
                  </a:lnTo>
                  <a:lnTo>
                    <a:pt x="75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087560" y="5576760"/>
              <a:ext cx="114120" cy="155880"/>
            </a:xfrm>
            <a:custGeom>
              <a:avLst/>
              <a:gdLst/>
              <a:ahLst/>
              <a:rect l="l" t="t" r="r" b="b"/>
              <a:pathLst>
                <a:path w="72" h="98">
                  <a:moveTo>
                    <a:pt x="0" y="93"/>
                  </a:moveTo>
                  <a:lnTo>
                    <a:pt x="7" y="98"/>
                  </a:lnTo>
                  <a:lnTo>
                    <a:pt x="72" y="5"/>
                  </a:lnTo>
                  <a:lnTo>
                    <a:pt x="64" y="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187280" y="5226120"/>
              <a:ext cx="117720" cy="355680"/>
            </a:xfrm>
            <a:custGeom>
              <a:avLst/>
              <a:gdLst/>
              <a:ahLst/>
              <a:rect l="l" t="t" r="r" b="b"/>
              <a:pathLst>
                <a:path w="74" h="224">
                  <a:moveTo>
                    <a:pt x="0" y="222"/>
                  </a:moveTo>
                  <a:lnTo>
                    <a:pt x="9" y="224"/>
                  </a:lnTo>
                  <a:lnTo>
                    <a:pt x="74" y="2"/>
                  </a:lnTo>
                  <a:lnTo>
                    <a:pt x="65" y="0"/>
                  </a:lnTo>
                  <a:lnTo>
                    <a:pt x="0" y="22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295280" y="5191200"/>
              <a:ext cx="122400" cy="42840"/>
            </a:xfrm>
            <a:custGeom>
              <a:avLst/>
              <a:gdLst/>
              <a:ahLst/>
              <a:rect l="l" t="t" r="r" b="b"/>
              <a:pathLst>
                <a:path w="77" h="27">
                  <a:moveTo>
                    <a:pt x="0" y="19"/>
                  </a:moveTo>
                  <a:lnTo>
                    <a:pt x="3" y="27"/>
                  </a:lnTo>
                  <a:lnTo>
                    <a:pt x="77" y="8"/>
                  </a:lnTo>
                  <a:lnTo>
                    <a:pt x="7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411200" y="5089680"/>
              <a:ext cx="112680" cy="112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65"/>
                  </a:moveTo>
                  <a:lnTo>
                    <a:pt x="6" y="71"/>
                  </a:lnTo>
                  <a:lnTo>
                    <a:pt x="71" y="6"/>
                  </a:lnTo>
                  <a:lnTo>
                    <a:pt x="65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519200" y="5087880"/>
              <a:ext cx="103320" cy="15840"/>
            </a:xfrm>
            <a:custGeom>
              <a:avLst/>
              <a:gdLst/>
              <a:ahLst/>
              <a:rect l="l" t="t" r="r" b="b"/>
              <a:pathLst>
                <a:path w="65" h="10">
                  <a:moveTo>
                    <a:pt x="0" y="0"/>
                  </a:moveTo>
                  <a:lnTo>
                    <a:pt x="0" y="9"/>
                  </a:lnTo>
                  <a:lnTo>
                    <a:pt x="65" y="10"/>
                  </a:lnTo>
                  <a:lnTo>
                    <a:pt x="65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620720" y="5087880"/>
              <a:ext cx="120600" cy="58680"/>
            </a:xfrm>
            <a:custGeom>
              <a:avLst/>
              <a:gdLst/>
              <a:ahLst/>
              <a:rect l="l" t="t" r="r" b="b"/>
              <a:pathLst>
                <a:path w="76" h="37">
                  <a:moveTo>
                    <a:pt x="3" y="0"/>
                  </a:moveTo>
                  <a:lnTo>
                    <a:pt x="0" y="8"/>
                  </a:lnTo>
                  <a:lnTo>
                    <a:pt x="73" y="37"/>
                  </a:lnTo>
                  <a:lnTo>
                    <a:pt x="76" y="2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736640" y="5132520"/>
              <a:ext cx="106560" cy="41040"/>
            </a:xfrm>
            <a:custGeom>
              <a:avLst/>
              <a:gdLst/>
              <a:ahLst/>
              <a:rect l="l" t="t" r="r" b="b"/>
              <a:pathLst>
                <a:path w="67" h="26">
                  <a:moveTo>
                    <a:pt x="2" y="0"/>
                  </a:moveTo>
                  <a:lnTo>
                    <a:pt x="0" y="9"/>
                  </a:lnTo>
                  <a:lnTo>
                    <a:pt x="65" y="26"/>
                  </a:lnTo>
                  <a:lnTo>
                    <a:pt x="67" y="1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838160" y="5089680"/>
              <a:ext cx="111240" cy="83880"/>
            </a:xfrm>
            <a:custGeom>
              <a:avLst/>
              <a:gdLst/>
              <a:ahLst/>
              <a:rect l="l" t="t" r="r" b="b"/>
              <a:pathLst>
                <a:path w="70" h="53">
                  <a:moveTo>
                    <a:pt x="0" y="46"/>
                  </a:moveTo>
                  <a:lnTo>
                    <a:pt x="5" y="53"/>
                  </a:lnTo>
                  <a:lnTo>
                    <a:pt x="70" y="7"/>
                  </a:lnTo>
                  <a:lnTo>
                    <a:pt x="65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940040" y="4884840"/>
              <a:ext cx="128520" cy="212760"/>
            </a:xfrm>
            <a:custGeom>
              <a:avLst/>
              <a:gdLst/>
              <a:ahLst/>
              <a:rect l="l" t="t" r="r" b="b"/>
              <a:pathLst>
                <a:path w="81" h="134">
                  <a:moveTo>
                    <a:pt x="0" y="130"/>
                  </a:moveTo>
                  <a:lnTo>
                    <a:pt x="7" y="134"/>
                  </a:lnTo>
                  <a:lnTo>
                    <a:pt x="81" y="4"/>
                  </a:lnTo>
                  <a:lnTo>
                    <a:pt x="74" y="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057400" y="4883040"/>
              <a:ext cx="114480" cy="128520"/>
            </a:xfrm>
            <a:custGeom>
              <a:avLst/>
              <a:gdLst/>
              <a:ahLst/>
              <a:rect l="l" t="t" r="r" b="b"/>
              <a:pathLst>
                <a:path w="72" h="81">
                  <a:moveTo>
                    <a:pt x="7" y="0"/>
                  </a:moveTo>
                  <a:lnTo>
                    <a:pt x="0" y="6"/>
                  </a:lnTo>
                  <a:lnTo>
                    <a:pt x="65" y="81"/>
                  </a:lnTo>
                  <a:lnTo>
                    <a:pt x="72" y="7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158920" y="5005440"/>
              <a:ext cx="115920" cy="326880"/>
            </a:xfrm>
            <a:custGeom>
              <a:avLst/>
              <a:gdLst/>
              <a:ahLst/>
              <a:rect l="l" t="t" r="r" b="b"/>
              <a:pathLst>
                <a:path w="73" h="206">
                  <a:moveTo>
                    <a:pt x="8" y="0"/>
                  </a:moveTo>
                  <a:lnTo>
                    <a:pt x="0" y="2"/>
                  </a:lnTo>
                  <a:lnTo>
                    <a:pt x="65" y="206"/>
                  </a:lnTo>
                  <a:lnTo>
                    <a:pt x="73" y="20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263680" y="5327640"/>
              <a:ext cx="128520" cy="16812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" y="0"/>
                  </a:moveTo>
                  <a:lnTo>
                    <a:pt x="0" y="5"/>
                  </a:lnTo>
                  <a:lnTo>
                    <a:pt x="74" y="106"/>
                  </a:lnTo>
                  <a:lnTo>
                    <a:pt x="81" y="10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384280" y="5456160"/>
              <a:ext cx="106560" cy="41400"/>
            </a:xfrm>
            <a:custGeom>
              <a:avLst/>
              <a:gdLst/>
              <a:ahLst/>
              <a:rect l="l" t="t" r="r" b="b"/>
              <a:pathLst>
                <a:path w="67" h="26">
                  <a:moveTo>
                    <a:pt x="0" y="18"/>
                  </a:moveTo>
                  <a:lnTo>
                    <a:pt x="2" y="26"/>
                  </a:lnTo>
                  <a:lnTo>
                    <a:pt x="67" y="9"/>
                  </a:lnTo>
                  <a:lnTo>
                    <a:pt x="65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482920" y="5181480"/>
              <a:ext cx="115920" cy="285840"/>
            </a:xfrm>
            <a:custGeom>
              <a:avLst/>
              <a:gdLst/>
              <a:ahLst/>
              <a:rect l="l" t="t" r="r" b="b"/>
              <a:pathLst>
                <a:path w="73" h="180">
                  <a:moveTo>
                    <a:pt x="0" y="176"/>
                  </a:moveTo>
                  <a:lnTo>
                    <a:pt x="8" y="180"/>
                  </a:lnTo>
                  <a:lnTo>
                    <a:pt x="73" y="3"/>
                  </a:lnTo>
                  <a:lnTo>
                    <a:pt x="65" y="0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587680" y="5018040"/>
              <a:ext cx="128520" cy="169920"/>
            </a:xfrm>
            <a:custGeom>
              <a:avLst/>
              <a:gdLst/>
              <a:ahLst/>
              <a:rect l="l" t="t" r="r" b="b"/>
              <a:pathLst>
                <a:path w="81" h="107">
                  <a:moveTo>
                    <a:pt x="0" y="101"/>
                  </a:moveTo>
                  <a:lnTo>
                    <a:pt x="7" y="107"/>
                  </a:lnTo>
                  <a:lnTo>
                    <a:pt x="81" y="5"/>
                  </a:lnTo>
                  <a:lnTo>
                    <a:pt x="74" y="0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705040" y="4842000"/>
              <a:ext cx="114480" cy="182520"/>
            </a:xfrm>
            <a:custGeom>
              <a:avLst/>
              <a:gdLst/>
              <a:ahLst/>
              <a:rect l="l" t="t" r="r" b="b"/>
              <a:pathLst>
                <a:path w="72" h="115">
                  <a:moveTo>
                    <a:pt x="0" y="111"/>
                  </a:moveTo>
                  <a:lnTo>
                    <a:pt x="7" y="115"/>
                  </a:lnTo>
                  <a:lnTo>
                    <a:pt x="72" y="4"/>
                  </a:lnTo>
                  <a:lnTo>
                    <a:pt x="65" y="0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806560" y="4503600"/>
              <a:ext cx="115920" cy="343080"/>
            </a:xfrm>
            <a:custGeom>
              <a:avLst/>
              <a:gdLst/>
              <a:ahLst/>
              <a:rect l="l" t="t" r="r" b="b"/>
              <a:pathLst>
                <a:path w="73" h="216">
                  <a:moveTo>
                    <a:pt x="0" y="214"/>
                  </a:moveTo>
                  <a:lnTo>
                    <a:pt x="8" y="216"/>
                  </a:lnTo>
                  <a:lnTo>
                    <a:pt x="73" y="3"/>
                  </a:lnTo>
                  <a:lnTo>
                    <a:pt x="65" y="0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909880" y="4503600"/>
              <a:ext cx="131760" cy="533520"/>
            </a:xfrm>
            <a:custGeom>
              <a:avLst/>
              <a:gdLst/>
              <a:ahLst/>
              <a:rect l="l" t="t" r="r" b="b"/>
              <a:pathLst>
                <a:path w="83" h="336">
                  <a:moveTo>
                    <a:pt x="8" y="0"/>
                  </a:moveTo>
                  <a:lnTo>
                    <a:pt x="0" y="3"/>
                  </a:lnTo>
                  <a:lnTo>
                    <a:pt x="74" y="336"/>
                  </a:lnTo>
                  <a:lnTo>
                    <a:pt x="83" y="33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027240" y="4227480"/>
              <a:ext cx="119160" cy="809640"/>
            </a:xfrm>
            <a:custGeom>
              <a:avLst/>
              <a:gdLst/>
              <a:ahLst/>
              <a:rect l="l" t="t" r="r" b="b"/>
              <a:pathLst>
                <a:path w="75" h="510">
                  <a:moveTo>
                    <a:pt x="0" y="509"/>
                  </a:moveTo>
                  <a:lnTo>
                    <a:pt x="10" y="510"/>
                  </a:lnTo>
                  <a:lnTo>
                    <a:pt x="75" y="1"/>
                  </a:lnTo>
                  <a:lnTo>
                    <a:pt x="65" y="0"/>
                  </a:lnTo>
                  <a:lnTo>
                    <a:pt x="0" y="50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132000" y="4133880"/>
              <a:ext cx="111240" cy="100080"/>
            </a:xfrm>
            <a:custGeom>
              <a:avLst/>
              <a:gdLst/>
              <a:ahLst/>
              <a:rect l="l" t="t" r="r" b="b"/>
              <a:pathLst>
                <a:path w="70" h="63">
                  <a:moveTo>
                    <a:pt x="0" y="55"/>
                  </a:moveTo>
                  <a:lnTo>
                    <a:pt x="6" y="63"/>
                  </a:lnTo>
                  <a:lnTo>
                    <a:pt x="70" y="7"/>
                  </a:lnTo>
                  <a:lnTo>
                    <a:pt x="64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232080" y="4137120"/>
              <a:ext cx="131760" cy="561960"/>
            </a:xfrm>
            <a:custGeom>
              <a:avLst/>
              <a:gdLst/>
              <a:ahLst/>
              <a:rect l="l" t="t" r="r" b="b"/>
              <a:pathLst>
                <a:path w="83" h="354">
                  <a:moveTo>
                    <a:pt x="8" y="0"/>
                  </a:moveTo>
                  <a:lnTo>
                    <a:pt x="0" y="2"/>
                  </a:lnTo>
                  <a:lnTo>
                    <a:pt x="74" y="354"/>
                  </a:lnTo>
                  <a:lnTo>
                    <a:pt x="83" y="35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349800" y="4697280"/>
              <a:ext cx="117360" cy="546120"/>
            </a:xfrm>
            <a:custGeom>
              <a:avLst/>
              <a:gdLst/>
              <a:ahLst/>
              <a:rect l="l" t="t" r="r" b="b"/>
              <a:pathLst>
                <a:path w="74" h="344">
                  <a:moveTo>
                    <a:pt x="9" y="0"/>
                  </a:moveTo>
                  <a:lnTo>
                    <a:pt x="0" y="1"/>
                  </a:lnTo>
                  <a:lnTo>
                    <a:pt x="65" y="344"/>
                  </a:lnTo>
                  <a:lnTo>
                    <a:pt x="74" y="34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452760" y="4535640"/>
              <a:ext cx="119160" cy="707760"/>
            </a:xfrm>
            <a:custGeom>
              <a:avLst/>
              <a:gdLst/>
              <a:ahLst/>
              <a:rect l="l" t="t" r="r" b="b"/>
              <a:pathLst>
                <a:path w="75" h="446">
                  <a:moveTo>
                    <a:pt x="0" y="445"/>
                  </a:moveTo>
                  <a:lnTo>
                    <a:pt x="10" y="446"/>
                  </a:lnTo>
                  <a:lnTo>
                    <a:pt x="75" y="1"/>
                  </a:lnTo>
                  <a:lnTo>
                    <a:pt x="65" y="0"/>
                  </a:lnTo>
                  <a:lnTo>
                    <a:pt x="0" y="44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556080" y="3930480"/>
              <a:ext cx="131760" cy="606600"/>
            </a:xfrm>
            <a:custGeom>
              <a:avLst/>
              <a:gdLst/>
              <a:ahLst/>
              <a:rect l="l" t="t" r="r" b="b"/>
              <a:pathLst>
                <a:path w="83" h="382">
                  <a:moveTo>
                    <a:pt x="0" y="380"/>
                  </a:moveTo>
                  <a:lnTo>
                    <a:pt x="8" y="382"/>
                  </a:lnTo>
                  <a:lnTo>
                    <a:pt x="83" y="2"/>
                  </a:lnTo>
                  <a:lnTo>
                    <a:pt x="74" y="0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673440" y="3930480"/>
              <a:ext cx="117360" cy="489240"/>
            </a:xfrm>
            <a:custGeom>
              <a:avLst/>
              <a:gdLst/>
              <a:ahLst/>
              <a:rect l="l" t="t" r="r" b="b"/>
              <a:pathLst>
                <a:path w="74" h="308">
                  <a:moveTo>
                    <a:pt x="9" y="0"/>
                  </a:moveTo>
                  <a:lnTo>
                    <a:pt x="0" y="2"/>
                  </a:lnTo>
                  <a:lnTo>
                    <a:pt x="65" y="308"/>
                  </a:lnTo>
                  <a:lnTo>
                    <a:pt x="74" y="30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776760" y="4417920"/>
              <a:ext cx="118800" cy="825480"/>
            </a:xfrm>
            <a:custGeom>
              <a:avLst/>
              <a:gdLst/>
              <a:ahLst/>
              <a:rect l="l" t="t" r="r" b="b"/>
              <a:pathLst>
                <a:path w="75" h="520">
                  <a:moveTo>
                    <a:pt x="10" y="0"/>
                  </a:moveTo>
                  <a:lnTo>
                    <a:pt x="0" y="1"/>
                  </a:lnTo>
                  <a:lnTo>
                    <a:pt x="65" y="520"/>
                  </a:lnTo>
                  <a:lnTo>
                    <a:pt x="75" y="51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879720" y="5238720"/>
              <a:ext cx="13176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9" y="0"/>
                  </a:moveTo>
                  <a:lnTo>
                    <a:pt x="0" y="4"/>
                  </a:lnTo>
                  <a:lnTo>
                    <a:pt x="75" y="161"/>
                  </a:lnTo>
                  <a:lnTo>
                    <a:pt x="83" y="15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998880" y="5594400"/>
              <a:ext cx="28440" cy="120600"/>
            </a:xfrm>
            <a:custGeom>
              <a:avLst/>
              <a:gdLst/>
              <a:ahLst/>
              <a:rect l="l" t="t" r="r" b="b"/>
              <a:pathLst>
                <a:path w="18" h="76">
                  <a:moveTo>
                    <a:pt x="9" y="0"/>
                  </a:moveTo>
                  <a:lnTo>
                    <a:pt x="0" y="1"/>
                  </a:lnTo>
                  <a:lnTo>
                    <a:pt x="9" y="76"/>
                  </a:lnTo>
                  <a:lnTo>
                    <a:pt x="18" y="7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014720" y="5707080"/>
              <a:ext cx="1116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6" y="0"/>
                  </a:moveTo>
                  <a:lnTo>
                    <a:pt x="0" y="7"/>
                  </a:lnTo>
                  <a:lnTo>
                    <a:pt x="1" y="8"/>
                  </a:lnTo>
                  <a:lnTo>
                    <a:pt x="7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019400" y="570564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" y="0"/>
                  </a:moveTo>
                  <a:lnTo>
                    <a:pt x="0" y="10"/>
                  </a:lnTo>
                  <a:lnTo>
                    <a:pt x="10" y="11"/>
                  </a:lnTo>
                  <a:lnTo>
                    <a:pt x="1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027320" y="5551560"/>
              <a:ext cx="28800" cy="163440"/>
            </a:xfrm>
            <a:custGeom>
              <a:avLst/>
              <a:gdLst/>
              <a:ahLst/>
              <a:rect l="l" t="t" r="r" b="b"/>
              <a:pathLst>
                <a:path w="18" h="103">
                  <a:moveTo>
                    <a:pt x="0" y="102"/>
                  </a:moveTo>
                  <a:lnTo>
                    <a:pt x="10" y="103"/>
                  </a:lnTo>
                  <a:lnTo>
                    <a:pt x="18" y="1"/>
                  </a:lnTo>
                  <a:lnTo>
                    <a:pt x="9" y="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041720" y="5551560"/>
              <a:ext cx="15840" cy="162000"/>
            </a:xfrm>
            <a:custGeom>
              <a:avLst/>
              <a:gdLst/>
              <a:ahLst/>
              <a:rect l="l" t="t" r="r" b="b"/>
              <a:pathLst>
                <a:path w="10" h="102">
                  <a:moveTo>
                    <a:pt x="9" y="0"/>
                  </a:moveTo>
                  <a:lnTo>
                    <a:pt x="0" y="0"/>
                  </a:lnTo>
                  <a:lnTo>
                    <a:pt x="1" y="102"/>
                  </a:lnTo>
                  <a:lnTo>
                    <a:pt x="10" y="10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041720" y="5594400"/>
              <a:ext cx="30240" cy="120600"/>
            </a:xfrm>
            <a:custGeom>
              <a:avLst/>
              <a:gdLst/>
              <a:ahLst/>
              <a:rect l="l" t="t" r="r" b="b"/>
              <a:pathLst>
                <a:path w="19" h="76">
                  <a:moveTo>
                    <a:pt x="0" y="75"/>
                  </a:moveTo>
                  <a:lnTo>
                    <a:pt x="9" y="76"/>
                  </a:lnTo>
                  <a:lnTo>
                    <a:pt x="19" y="1"/>
                  </a:lnTo>
                  <a:lnTo>
                    <a:pt x="9" y="0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057560" y="558972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7" y="0"/>
                  </a:moveTo>
                  <a:lnTo>
                    <a:pt x="0" y="6"/>
                  </a:lnTo>
                  <a:lnTo>
                    <a:pt x="10" y="16"/>
                  </a:lnTo>
                  <a:lnTo>
                    <a:pt x="16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071960" y="5462640"/>
              <a:ext cx="15840" cy="147600"/>
            </a:xfrm>
            <a:custGeom>
              <a:avLst/>
              <a:gdLst/>
              <a:ahLst/>
              <a:rect l="l" t="t" r="r" b="b"/>
              <a:pathLst>
                <a:path w="10" h="93">
                  <a:moveTo>
                    <a:pt x="0" y="93"/>
                  </a:moveTo>
                  <a:lnTo>
                    <a:pt x="9" y="93"/>
                  </a:lnTo>
                  <a:lnTo>
                    <a:pt x="10" y="0"/>
                  </a:lnTo>
                  <a:lnTo>
                    <a:pt x="1" y="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073400" y="5457960"/>
              <a:ext cx="23760" cy="2520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6" y="0"/>
                  </a:moveTo>
                  <a:lnTo>
                    <a:pt x="0" y="8"/>
                  </a:lnTo>
                  <a:lnTo>
                    <a:pt x="9" y="16"/>
                  </a:lnTo>
                  <a:lnTo>
                    <a:pt x="15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086360" y="5462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9"/>
                  </a:moveTo>
                  <a:lnTo>
                    <a:pt x="9" y="10"/>
                  </a:lnTo>
                  <a:lnTo>
                    <a:pt x="10" y="2"/>
                  </a:lnTo>
                  <a:lnTo>
                    <a:pt x="1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086360" y="5386320"/>
              <a:ext cx="28440" cy="79560"/>
            </a:xfrm>
            <a:custGeom>
              <a:avLst/>
              <a:gdLst/>
              <a:ahLst/>
              <a:rect l="l" t="t" r="r" b="b"/>
              <a:pathLst>
                <a:path w="18" h="50">
                  <a:moveTo>
                    <a:pt x="0" y="47"/>
                  </a:moveTo>
                  <a:lnTo>
                    <a:pt x="8" y="50"/>
                  </a:lnTo>
                  <a:lnTo>
                    <a:pt x="18" y="2"/>
                  </a:lnTo>
                  <a:lnTo>
                    <a:pt x="9" y="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100400" y="5329080"/>
              <a:ext cx="28800" cy="60480"/>
            </a:xfrm>
            <a:custGeom>
              <a:avLst/>
              <a:gdLst/>
              <a:ahLst/>
              <a:rect l="l" t="t" r="r" b="b"/>
              <a:pathLst>
                <a:path w="18" h="38">
                  <a:moveTo>
                    <a:pt x="0" y="36"/>
                  </a:moveTo>
                  <a:lnTo>
                    <a:pt x="9" y="38"/>
                  </a:lnTo>
                  <a:lnTo>
                    <a:pt x="18" y="2"/>
                  </a:lnTo>
                  <a:lnTo>
                    <a:pt x="10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116240" y="5227560"/>
              <a:ext cx="16200" cy="103320"/>
            </a:xfrm>
            <a:custGeom>
              <a:avLst/>
              <a:gdLst/>
              <a:ahLst/>
              <a:rect l="l" t="t" r="r" b="b"/>
              <a:pathLst>
                <a:path w="10" h="65">
                  <a:moveTo>
                    <a:pt x="0" y="65"/>
                  </a:moveTo>
                  <a:lnTo>
                    <a:pt x="9" y="65"/>
                  </a:lnTo>
                  <a:lnTo>
                    <a:pt x="10" y="0"/>
                  </a:lnTo>
                  <a:lnTo>
                    <a:pt x="1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116240" y="5094360"/>
              <a:ext cx="30240" cy="135000"/>
            </a:xfrm>
            <a:custGeom>
              <a:avLst/>
              <a:gdLst/>
              <a:ahLst/>
              <a:rect l="l" t="t" r="r" b="b"/>
              <a:pathLst>
                <a:path w="19" h="85">
                  <a:moveTo>
                    <a:pt x="0" y="84"/>
                  </a:moveTo>
                  <a:lnTo>
                    <a:pt x="9" y="85"/>
                  </a:lnTo>
                  <a:lnTo>
                    <a:pt x="19" y="1"/>
                  </a:lnTo>
                  <a:lnTo>
                    <a:pt x="9" y="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130640" y="4991040"/>
              <a:ext cx="17640" cy="103320"/>
            </a:xfrm>
            <a:custGeom>
              <a:avLst/>
              <a:gdLst/>
              <a:ahLst/>
              <a:rect l="l" t="t" r="r" b="b"/>
              <a:pathLst>
                <a:path w="11" h="65">
                  <a:moveTo>
                    <a:pt x="0" y="65"/>
                  </a:moveTo>
                  <a:lnTo>
                    <a:pt x="10" y="65"/>
                  </a:lnTo>
                  <a:lnTo>
                    <a:pt x="11" y="0"/>
                  </a:lnTo>
                  <a:lnTo>
                    <a:pt x="1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130640" y="4784760"/>
              <a:ext cx="28440" cy="208080"/>
            </a:xfrm>
            <a:custGeom>
              <a:avLst/>
              <a:gdLst/>
              <a:ahLst/>
              <a:rect l="l" t="t" r="r" b="b"/>
              <a:pathLst>
                <a:path w="18" h="131">
                  <a:moveTo>
                    <a:pt x="0" y="130"/>
                  </a:moveTo>
                  <a:lnTo>
                    <a:pt x="10" y="131"/>
                  </a:lnTo>
                  <a:lnTo>
                    <a:pt x="18" y="1"/>
                  </a:lnTo>
                  <a:lnTo>
                    <a:pt x="9" y="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145040" y="4782960"/>
              <a:ext cx="27000" cy="5112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8" y="0"/>
                  </a:moveTo>
                  <a:lnTo>
                    <a:pt x="0" y="3"/>
                  </a:lnTo>
                  <a:lnTo>
                    <a:pt x="9" y="32"/>
                  </a:lnTo>
                  <a:lnTo>
                    <a:pt x="17" y="2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159080" y="4830840"/>
              <a:ext cx="17640" cy="57240"/>
            </a:xfrm>
            <a:custGeom>
              <a:avLst/>
              <a:gdLst/>
              <a:ahLst/>
              <a:rect l="l" t="t" r="r" b="b"/>
              <a:pathLst>
                <a:path w="11" h="36">
                  <a:moveTo>
                    <a:pt x="9" y="0"/>
                  </a:moveTo>
                  <a:lnTo>
                    <a:pt x="0" y="0"/>
                  </a:lnTo>
                  <a:lnTo>
                    <a:pt x="1" y="36"/>
                  </a:lnTo>
                  <a:lnTo>
                    <a:pt x="11" y="3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159080" y="4888080"/>
              <a:ext cx="30240" cy="164880"/>
            </a:xfrm>
            <a:custGeom>
              <a:avLst/>
              <a:gdLst/>
              <a:ahLst/>
              <a:rect l="l" t="t" r="r" b="b"/>
              <a:pathLst>
                <a:path w="19" h="104">
                  <a:moveTo>
                    <a:pt x="9" y="0"/>
                  </a:moveTo>
                  <a:lnTo>
                    <a:pt x="0" y="1"/>
                  </a:lnTo>
                  <a:lnTo>
                    <a:pt x="9" y="104"/>
                  </a:lnTo>
                  <a:lnTo>
                    <a:pt x="19" y="10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176720" y="50468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  <a:lnTo>
                    <a:pt x="1" y="7"/>
                  </a:lnTo>
                  <a:lnTo>
                    <a:pt x="7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173480" y="5051520"/>
              <a:ext cx="30240" cy="191880"/>
            </a:xfrm>
            <a:custGeom>
              <a:avLst/>
              <a:gdLst/>
              <a:ahLst/>
              <a:rect l="l" t="t" r="r" b="b"/>
              <a:pathLst>
                <a:path w="19" h="121">
                  <a:moveTo>
                    <a:pt x="10" y="0"/>
                  </a:moveTo>
                  <a:lnTo>
                    <a:pt x="0" y="1"/>
                  </a:lnTo>
                  <a:lnTo>
                    <a:pt x="10" y="121"/>
                  </a:lnTo>
                  <a:lnTo>
                    <a:pt x="19" y="12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189320" y="5181480"/>
              <a:ext cx="28800" cy="61920"/>
            </a:xfrm>
            <a:custGeom>
              <a:avLst/>
              <a:gdLst/>
              <a:ahLst/>
              <a:rect l="l" t="t" r="r" b="b"/>
              <a:pathLst>
                <a:path w="18" h="39">
                  <a:moveTo>
                    <a:pt x="0" y="37"/>
                  </a:moveTo>
                  <a:lnTo>
                    <a:pt x="8" y="39"/>
                  </a:lnTo>
                  <a:lnTo>
                    <a:pt x="18" y="2"/>
                  </a:lnTo>
                  <a:lnTo>
                    <a:pt x="9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203720" y="5183280"/>
              <a:ext cx="17280" cy="74520"/>
            </a:xfrm>
            <a:custGeom>
              <a:avLst/>
              <a:gdLst/>
              <a:ahLst/>
              <a:rect l="l" t="t" r="r" b="b"/>
              <a:pathLst>
                <a:path w="11" h="47">
                  <a:moveTo>
                    <a:pt x="10" y="0"/>
                  </a:moveTo>
                  <a:lnTo>
                    <a:pt x="0" y="0"/>
                  </a:lnTo>
                  <a:lnTo>
                    <a:pt x="1" y="47"/>
                  </a:lnTo>
                  <a:lnTo>
                    <a:pt x="11" y="4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203720" y="5154480"/>
              <a:ext cx="30240" cy="104760"/>
            </a:xfrm>
            <a:custGeom>
              <a:avLst/>
              <a:gdLst/>
              <a:ahLst/>
              <a:rect l="l" t="t" r="r" b="b"/>
              <a:pathLst>
                <a:path w="19" h="66">
                  <a:moveTo>
                    <a:pt x="0" y="65"/>
                  </a:moveTo>
                  <a:lnTo>
                    <a:pt x="10" y="66"/>
                  </a:lnTo>
                  <a:lnTo>
                    <a:pt x="19" y="1"/>
                  </a:lnTo>
                  <a:lnTo>
                    <a:pt x="10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219560" y="5006880"/>
              <a:ext cx="30240" cy="149400"/>
            </a:xfrm>
            <a:custGeom>
              <a:avLst/>
              <a:gdLst/>
              <a:ahLst/>
              <a:rect l="l" t="t" r="r" b="b"/>
              <a:pathLst>
                <a:path w="19" h="94">
                  <a:moveTo>
                    <a:pt x="0" y="93"/>
                  </a:moveTo>
                  <a:lnTo>
                    <a:pt x="9" y="94"/>
                  </a:lnTo>
                  <a:lnTo>
                    <a:pt x="19" y="1"/>
                  </a:lnTo>
                  <a:lnTo>
                    <a:pt x="9" y="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235400" y="500076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0"/>
                  </a:moveTo>
                  <a:lnTo>
                    <a:pt x="0" y="7"/>
                  </a:lnTo>
                  <a:lnTo>
                    <a:pt x="1" y="8"/>
                  </a:lnTo>
                  <a:lnTo>
                    <a:pt x="8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235400" y="4986360"/>
              <a:ext cx="23760" cy="2520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9"/>
                  </a:moveTo>
                  <a:lnTo>
                    <a:pt x="7" y="16"/>
                  </a:lnTo>
                  <a:lnTo>
                    <a:pt x="15" y="6"/>
                  </a:lnTo>
                  <a:lnTo>
                    <a:pt x="9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248000" y="4991040"/>
              <a:ext cx="16200" cy="44640"/>
            </a:xfrm>
            <a:custGeom>
              <a:avLst/>
              <a:gdLst/>
              <a:ahLst/>
              <a:rect l="l" t="t" r="r" b="b"/>
              <a:pathLst>
                <a:path w="10" h="28">
                  <a:moveTo>
                    <a:pt x="9" y="0"/>
                  </a:moveTo>
                  <a:lnTo>
                    <a:pt x="0" y="0"/>
                  </a:lnTo>
                  <a:lnTo>
                    <a:pt x="1" y="28"/>
                  </a:lnTo>
                  <a:lnTo>
                    <a:pt x="10" y="2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248000" y="5033880"/>
              <a:ext cx="27000" cy="61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8" y="0"/>
                  </a:moveTo>
                  <a:lnTo>
                    <a:pt x="0" y="2"/>
                  </a:lnTo>
                  <a:lnTo>
                    <a:pt x="9" y="39"/>
                  </a:lnTo>
                  <a:lnTo>
                    <a:pt x="17" y="3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268880" y="5087880"/>
              <a:ext cx="17280" cy="15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" y="0"/>
                  </a:moveTo>
                  <a:lnTo>
                    <a:pt x="0" y="9"/>
                  </a:lnTo>
                  <a:lnTo>
                    <a:pt x="10" y="10"/>
                  </a:lnTo>
                  <a:lnTo>
                    <a:pt x="1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276800" y="5094360"/>
              <a:ext cx="17280" cy="73080"/>
            </a:xfrm>
            <a:custGeom>
              <a:avLst/>
              <a:gdLst/>
              <a:ahLst/>
              <a:rect l="l" t="t" r="r" b="b"/>
              <a:pathLst>
                <a:path w="11" h="46">
                  <a:moveTo>
                    <a:pt x="10" y="0"/>
                  </a:moveTo>
                  <a:lnTo>
                    <a:pt x="0" y="0"/>
                  </a:lnTo>
                  <a:lnTo>
                    <a:pt x="1" y="46"/>
                  </a:lnTo>
                  <a:lnTo>
                    <a:pt x="11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276800" y="5165640"/>
              <a:ext cx="28440" cy="63720"/>
            </a:xfrm>
            <a:custGeom>
              <a:avLst/>
              <a:gdLst/>
              <a:ahLst/>
              <a:rect l="l" t="t" r="r" b="b"/>
              <a:pathLst>
                <a:path w="18" h="40">
                  <a:moveTo>
                    <a:pt x="9" y="0"/>
                  </a:moveTo>
                  <a:lnTo>
                    <a:pt x="0" y="2"/>
                  </a:lnTo>
                  <a:lnTo>
                    <a:pt x="10" y="40"/>
                  </a:lnTo>
                  <a:lnTo>
                    <a:pt x="18" y="3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292640" y="5154480"/>
              <a:ext cx="15840" cy="73080"/>
            </a:xfrm>
            <a:custGeom>
              <a:avLst/>
              <a:gdLst/>
              <a:ahLst/>
              <a:rect l="l" t="t" r="r" b="b"/>
              <a:pathLst>
                <a:path w="10" h="46">
                  <a:moveTo>
                    <a:pt x="0" y="46"/>
                  </a:moveTo>
                  <a:lnTo>
                    <a:pt x="9" y="46"/>
                  </a:lnTo>
                  <a:lnTo>
                    <a:pt x="10" y="0"/>
                  </a:lnTo>
                  <a:lnTo>
                    <a:pt x="1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294080" y="513396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10"/>
                  </a:moveTo>
                  <a:lnTo>
                    <a:pt x="6" y="16"/>
                  </a:lnTo>
                  <a:lnTo>
                    <a:pt x="16" y="6"/>
                  </a:lnTo>
                  <a:lnTo>
                    <a:pt x="9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313160" y="513252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" y="0"/>
                  </a:moveTo>
                  <a:lnTo>
                    <a:pt x="0" y="10"/>
                  </a:lnTo>
                  <a:lnTo>
                    <a:pt x="10" y="11"/>
                  </a:lnTo>
                  <a:lnTo>
                    <a:pt x="1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322880" y="5138640"/>
              <a:ext cx="15840" cy="249480"/>
            </a:xfrm>
            <a:custGeom>
              <a:avLst/>
              <a:gdLst/>
              <a:ahLst/>
              <a:rect l="l" t="t" r="r" b="b"/>
              <a:pathLst>
                <a:path w="10" h="157">
                  <a:moveTo>
                    <a:pt x="9" y="0"/>
                  </a:moveTo>
                  <a:lnTo>
                    <a:pt x="0" y="0"/>
                  </a:lnTo>
                  <a:lnTo>
                    <a:pt x="1" y="157"/>
                  </a:lnTo>
                  <a:lnTo>
                    <a:pt x="10" y="15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329000" y="5381640"/>
              <a:ext cx="1440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1" y="0"/>
                  </a:moveTo>
                  <a:lnTo>
                    <a:pt x="0" y="10"/>
                  </a:lnTo>
                  <a:lnTo>
                    <a:pt x="8" y="11"/>
                  </a:lnTo>
                  <a:lnTo>
                    <a:pt x="9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335480" y="5388120"/>
              <a:ext cx="17280" cy="60120"/>
            </a:xfrm>
            <a:custGeom>
              <a:avLst/>
              <a:gdLst/>
              <a:ahLst/>
              <a:rect l="l" t="t" r="r" b="b"/>
              <a:pathLst>
                <a:path w="11" h="38">
                  <a:moveTo>
                    <a:pt x="9" y="0"/>
                  </a:moveTo>
                  <a:lnTo>
                    <a:pt x="0" y="0"/>
                  </a:lnTo>
                  <a:lnTo>
                    <a:pt x="1" y="38"/>
                  </a:lnTo>
                  <a:lnTo>
                    <a:pt x="11" y="3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336920" y="544500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7" y="0"/>
                  </a:moveTo>
                  <a:lnTo>
                    <a:pt x="0" y="4"/>
                  </a:lnTo>
                  <a:lnTo>
                    <a:pt x="10" y="22"/>
                  </a:lnTo>
                  <a:lnTo>
                    <a:pt x="17" y="1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357800" y="54705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0"/>
                  </a:moveTo>
                  <a:lnTo>
                    <a:pt x="0" y="9"/>
                  </a:lnTo>
                  <a:lnTo>
                    <a:pt x="9" y="10"/>
                  </a:lnTo>
                  <a:lnTo>
                    <a:pt x="1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365720" y="5477040"/>
              <a:ext cx="15840" cy="117360"/>
            </a:xfrm>
            <a:custGeom>
              <a:avLst/>
              <a:gdLst/>
              <a:ahLst/>
              <a:rect l="l" t="t" r="r" b="b"/>
              <a:pathLst>
                <a:path w="10" h="74">
                  <a:moveTo>
                    <a:pt x="9" y="0"/>
                  </a:moveTo>
                  <a:lnTo>
                    <a:pt x="0" y="0"/>
                  </a:lnTo>
                  <a:lnTo>
                    <a:pt x="1" y="74"/>
                  </a:lnTo>
                  <a:lnTo>
                    <a:pt x="10" y="7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365720" y="5594400"/>
              <a:ext cx="28440" cy="90360"/>
            </a:xfrm>
            <a:custGeom>
              <a:avLst/>
              <a:gdLst/>
              <a:ahLst/>
              <a:rect l="l" t="t" r="r" b="b"/>
              <a:pathLst>
                <a:path w="18" h="57">
                  <a:moveTo>
                    <a:pt x="8" y="0"/>
                  </a:moveTo>
                  <a:lnTo>
                    <a:pt x="0" y="1"/>
                  </a:lnTo>
                  <a:lnTo>
                    <a:pt x="9" y="57"/>
                  </a:lnTo>
                  <a:lnTo>
                    <a:pt x="18" y="5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381560" y="568008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8" y="0"/>
                  </a:moveTo>
                  <a:lnTo>
                    <a:pt x="0" y="4"/>
                  </a:lnTo>
                  <a:lnTo>
                    <a:pt x="10" y="23"/>
                  </a:lnTo>
                  <a:lnTo>
                    <a:pt x="17" y="1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395960" y="5713560"/>
              <a:ext cx="15840" cy="44280"/>
            </a:xfrm>
            <a:custGeom>
              <a:avLst/>
              <a:gdLst/>
              <a:ahLst/>
              <a:rect l="l" t="t" r="r" b="b"/>
              <a:pathLst>
                <a:path w="10" h="28">
                  <a:moveTo>
                    <a:pt x="9" y="0"/>
                  </a:moveTo>
                  <a:lnTo>
                    <a:pt x="0" y="0"/>
                  </a:lnTo>
                  <a:lnTo>
                    <a:pt x="1" y="28"/>
                  </a:lnTo>
                  <a:lnTo>
                    <a:pt x="10" y="2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395960" y="5756400"/>
              <a:ext cx="28440" cy="75960"/>
            </a:xfrm>
            <a:custGeom>
              <a:avLst/>
              <a:gdLst/>
              <a:ahLst/>
              <a:rect l="l" t="t" r="r" b="b"/>
              <a:pathLst>
                <a:path w="18" h="48">
                  <a:moveTo>
                    <a:pt x="8" y="0"/>
                  </a:moveTo>
                  <a:lnTo>
                    <a:pt x="0" y="2"/>
                  </a:lnTo>
                  <a:lnTo>
                    <a:pt x="9" y="48"/>
                  </a:lnTo>
                  <a:lnTo>
                    <a:pt x="18" y="4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410000" y="5800680"/>
              <a:ext cx="17640" cy="3168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0" y="19"/>
                  </a:moveTo>
                  <a:lnTo>
                    <a:pt x="10" y="20"/>
                  </a:lnTo>
                  <a:lnTo>
                    <a:pt x="11" y="1"/>
                  </a:lnTo>
                  <a:lnTo>
                    <a:pt x="1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416480" y="5794200"/>
              <a:ext cx="17280" cy="162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" y="0"/>
                  </a:moveTo>
                  <a:lnTo>
                    <a:pt x="0" y="9"/>
                  </a:lnTo>
                  <a:lnTo>
                    <a:pt x="10" y="10"/>
                  </a:lnTo>
                  <a:lnTo>
                    <a:pt x="1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432320" y="5794200"/>
              <a:ext cx="14400" cy="162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1" y="0"/>
                  </a:moveTo>
                  <a:lnTo>
                    <a:pt x="0" y="9"/>
                  </a:lnTo>
                  <a:lnTo>
                    <a:pt x="8" y="10"/>
                  </a:lnTo>
                  <a:lnTo>
                    <a:pt x="9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440240" y="57960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  <a:lnTo>
                    <a:pt x="1" y="7"/>
                  </a:lnTo>
                  <a:lnTo>
                    <a:pt x="7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438800" y="5799240"/>
              <a:ext cx="28440" cy="4896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8" y="0"/>
                  </a:moveTo>
                  <a:lnTo>
                    <a:pt x="0" y="3"/>
                  </a:lnTo>
                  <a:lnTo>
                    <a:pt x="9" y="31"/>
                  </a:lnTo>
                  <a:lnTo>
                    <a:pt x="18" y="2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454640" y="584028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7" y="0"/>
                  </a:moveTo>
                  <a:lnTo>
                    <a:pt x="0" y="6"/>
                  </a:lnTo>
                  <a:lnTo>
                    <a:pt x="1" y="7"/>
                  </a:lnTo>
                  <a:lnTo>
                    <a:pt x="8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452840" y="5843520"/>
              <a:ext cx="28800" cy="4932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9" y="0"/>
                  </a:moveTo>
                  <a:lnTo>
                    <a:pt x="0" y="3"/>
                  </a:lnTo>
                  <a:lnTo>
                    <a:pt x="10" y="31"/>
                  </a:lnTo>
                  <a:lnTo>
                    <a:pt x="18" y="2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475160" y="58816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" y="0"/>
                  </a:moveTo>
                  <a:lnTo>
                    <a:pt x="0" y="10"/>
                  </a:lnTo>
                  <a:lnTo>
                    <a:pt x="9" y="11"/>
                  </a:lnTo>
                  <a:lnTo>
                    <a:pt x="1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483080" y="5888160"/>
              <a:ext cx="17640" cy="4608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lnTo>
                    <a:pt x="0" y="0"/>
                  </a:lnTo>
                  <a:lnTo>
                    <a:pt x="1" y="29"/>
                  </a:lnTo>
                  <a:lnTo>
                    <a:pt x="11" y="2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489560" y="5927760"/>
              <a:ext cx="17280" cy="15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" y="0"/>
                  </a:moveTo>
                  <a:lnTo>
                    <a:pt x="0" y="9"/>
                  </a:lnTo>
                  <a:lnTo>
                    <a:pt x="10" y="10"/>
                  </a:lnTo>
                  <a:lnTo>
                    <a:pt x="1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498920" y="5888160"/>
              <a:ext cx="15840" cy="46080"/>
            </a:xfrm>
            <a:custGeom>
              <a:avLst/>
              <a:gdLst/>
              <a:ahLst/>
              <a:rect l="l" t="t" r="r" b="b"/>
              <a:pathLst>
                <a:path w="10" h="29">
                  <a:moveTo>
                    <a:pt x="0" y="29"/>
                  </a:moveTo>
                  <a:lnTo>
                    <a:pt x="9" y="29"/>
                  </a:lnTo>
                  <a:lnTo>
                    <a:pt x="10" y="0"/>
                  </a:lnTo>
                  <a:lnTo>
                    <a:pt x="1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498920" y="5829480"/>
              <a:ext cx="27000" cy="6156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0" y="36"/>
                  </a:moveTo>
                  <a:lnTo>
                    <a:pt x="8" y="39"/>
                  </a:lnTo>
                  <a:lnTo>
                    <a:pt x="17" y="2"/>
                  </a:lnTo>
                  <a:lnTo>
                    <a:pt x="9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513320" y="5830920"/>
              <a:ext cx="30240" cy="104760"/>
            </a:xfrm>
            <a:custGeom>
              <a:avLst/>
              <a:gdLst/>
              <a:ahLst/>
              <a:rect l="l" t="t" r="r" b="b"/>
              <a:pathLst>
                <a:path w="19" h="66">
                  <a:moveTo>
                    <a:pt x="9" y="0"/>
                  </a:moveTo>
                  <a:lnTo>
                    <a:pt x="0" y="1"/>
                  </a:lnTo>
                  <a:lnTo>
                    <a:pt x="9" y="66"/>
                  </a:lnTo>
                  <a:lnTo>
                    <a:pt x="19" y="6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527720" y="5934240"/>
              <a:ext cx="17280" cy="29880"/>
            </a:xfrm>
            <a:custGeom>
              <a:avLst/>
              <a:gdLst/>
              <a:ahLst/>
              <a:rect l="l" t="t" r="r" b="b"/>
              <a:pathLst>
                <a:path w="11" h="19">
                  <a:moveTo>
                    <a:pt x="10" y="0"/>
                  </a:moveTo>
                  <a:lnTo>
                    <a:pt x="0" y="0"/>
                  </a:lnTo>
                  <a:lnTo>
                    <a:pt x="2" y="19"/>
                  </a:lnTo>
                  <a:lnTo>
                    <a:pt x="11" y="1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527720" y="5830920"/>
              <a:ext cx="28440" cy="135000"/>
            </a:xfrm>
            <a:custGeom>
              <a:avLst/>
              <a:gdLst/>
              <a:ahLst/>
              <a:rect l="l" t="t" r="r" b="b"/>
              <a:pathLst>
                <a:path w="18" h="85">
                  <a:moveTo>
                    <a:pt x="0" y="84"/>
                  </a:moveTo>
                  <a:lnTo>
                    <a:pt x="10" y="85"/>
                  </a:lnTo>
                  <a:lnTo>
                    <a:pt x="18" y="1"/>
                  </a:lnTo>
                  <a:lnTo>
                    <a:pt x="9" y="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541760" y="5830920"/>
              <a:ext cx="30240" cy="135000"/>
            </a:xfrm>
            <a:custGeom>
              <a:avLst/>
              <a:gdLst/>
              <a:ahLst/>
              <a:rect l="l" t="t" r="r" b="b"/>
              <a:pathLst>
                <a:path w="19" h="85">
                  <a:moveTo>
                    <a:pt x="9" y="0"/>
                  </a:moveTo>
                  <a:lnTo>
                    <a:pt x="0" y="1"/>
                  </a:lnTo>
                  <a:lnTo>
                    <a:pt x="9" y="85"/>
                  </a:lnTo>
                  <a:lnTo>
                    <a:pt x="19" y="8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556160" y="5964120"/>
              <a:ext cx="17280" cy="130320"/>
            </a:xfrm>
            <a:custGeom>
              <a:avLst/>
              <a:gdLst/>
              <a:ahLst/>
              <a:rect l="l" t="t" r="r" b="b"/>
              <a:pathLst>
                <a:path w="11" h="82">
                  <a:moveTo>
                    <a:pt x="10" y="0"/>
                  </a:moveTo>
                  <a:lnTo>
                    <a:pt x="0" y="0"/>
                  </a:lnTo>
                  <a:lnTo>
                    <a:pt x="1" y="82"/>
                  </a:lnTo>
                  <a:lnTo>
                    <a:pt x="11" y="8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562640" y="6087960"/>
              <a:ext cx="1728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" y="0"/>
                  </a:moveTo>
                  <a:lnTo>
                    <a:pt x="0" y="10"/>
                  </a:lnTo>
                  <a:lnTo>
                    <a:pt x="10" y="11"/>
                  </a:lnTo>
                  <a:lnTo>
                    <a:pt x="1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572000" y="5830920"/>
              <a:ext cx="15840" cy="263520"/>
            </a:xfrm>
            <a:custGeom>
              <a:avLst/>
              <a:gdLst/>
              <a:ahLst/>
              <a:rect l="l" t="t" r="r" b="b"/>
              <a:pathLst>
                <a:path w="10" h="166">
                  <a:moveTo>
                    <a:pt x="0" y="166"/>
                  </a:moveTo>
                  <a:lnTo>
                    <a:pt x="9" y="166"/>
                  </a:lnTo>
                  <a:lnTo>
                    <a:pt x="10" y="0"/>
                  </a:lnTo>
                  <a:lnTo>
                    <a:pt x="1" y="0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572000" y="5257800"/>
              <a:ext cx="30240" cy="573120"/>
            </a:xfrm>
            <a:custGeom>
              <a:avLst/>
              <a:gdLst/>
              <a:ahLst/>
              <a:rect l="l" t="t" r="r" b="b"/>
              <a:pathLst>
                <a:path w="19" h="361">
                  <a:moveTo>
                    <a:pt x="0" y="361"/>
                  </a:moveTo>
                  <a:lnTo>
                    <a:pt x="9" y="361"/>
                  </a:lnTo>
                  <a:lnTo>
                    <a:pt x="19" y="0"/>
                  </a:lnTo>
                  <a:lnTo>
                    <a:pt x="9" y="0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586400" y="5051520"/>
              <a:ext cx="29880" cy="207720"/>
            </a:xfrm>
            <a:custGeom>
              <a:avLst/>
              <a:gdLst/>
              <a:ahLst/>
              <a:rect l="l" t="t" r="r" b="b"/>
              <a:pathLst>
                <a:path w="19" h="131">
                  <a:moveTo>
                    <a:pt x="0" y="130"/>
                  </a:moveTo>
                  <a:lnTo>
                    <a:pt x="10" y="131"/>
                  </a:lnTo>
                  <a:lnTo>
                    <a:pt x="19" y="1"/>
                  </a:lnTo>
                  <a:lnTo>
                    <a:pt x="10" y="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602240" y="4681440"/>
              <a:ext cx="15840" cy="370080"/>
            </a:xfrm>
            <a:custGeom>
              <a:avLst/>
              <a:gdLst/>
              <a:ahLst/>
              <a:rect l="l" t="t" r="r" b="b"/>
              <a:pathLst>
                <a:path w="10" h="233">
                  <a:moveTo>
                    <a:pt x="0" y="233"/>
                  </a:moveTo>
                  <a:lnTo>
                    <a:pt x="9" y="233"/>
                  </a:lnTo>
                  <a:lnTo>
                    <a:pt x="10" y="0"/>
                  </a:lnTo>
                  <a:lnTo>
                    <a:pt x="1" y="0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602240" y="4403880"/>
              <a:ext cx="28440" cy="279360"/>
            </a:xfrm>
            <a:custGeom>
              <a:avLst/>
              <a:gdLst/>
              <a:ahLst/>
              <a:rect l="l" t="t" r="r" b="b"/>
              <a:pathLst>
                <a:path w="18" h="176">
                  <a:moveTo>
                    <a:pt x="0" y="175"/>
                  </a:moveTo>
                  <a:lnTo>
                    <a:pt x="9" y="176"/>
                  </a:lnTo>
                  <a:lnTo>
                    <a:pt x="18" y="1"/>
                  </a:lnTo>
                  <a:lnTo>
                    <a:pt x="9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618080" y="4397400"/>
              <a:ext cx="1116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6" y="0"/>
                  </a:moveTo>
                  <a:lnTo>
                    <a:pt x="0" y="7"/>
                  </a:lnTo>
                  <a:lnTo>
                    <a:pt x="1" y="8"/>
                  </a:lnTo>
                  <a:lnTo>
                    <a:pt x="7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616280" y="4314960"/>
              <a:ext cx="28800" cy="90360"/>
            </a:xfrm>
            <a:custGeom>
              <a:avLst/>
              <a:gdLst/>
              <a:ahLst/>
              <a:rect l="l" t="t" r="r" b="b"/>
              <a:pathLst>
                <a:path w="18" h="57">
                  <a:moveTo>
                    <a:pt x="0" y="56"/>
                  </a:moveTo>
                  <a:lnTo>
                    <a:pt x="8" y="57"/>
                  </a:lnTo>
                  <a:lnTo>
                    <a:pt x="18" y="1"/>
                  </a:lnTo>
                  <a:lnTo>
                    <a:pt x="9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630680" y="424008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0" y="46"/>
                  </a:moveTo>
                  <a:lnTo>
                    <a:pt x="9" y="48"/>
                  </a:lnTo>
                  <a:lnTo>
                    <a:pt x="17" y="2"/>
                  </a:lnTo>
                  <a:lnTo>
                    <a:pt x="9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65280" y="6021360"/>
              <a:ext cx="17784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64920" y="6035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65280" y="5697360"/>
              <a:ext cx="17784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64920" y="5710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6360" y="5388120"/>
              <a:ext cx="28080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76000" y="54021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76360" y="5064120"/>
              <a:ext cx="28080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76000" y="50785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76360" y="4741920"/>
              <a:ext cx="28080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76000" y="47563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76360" y="4417920"/>
              <a:ext cx="28080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76000" y="4430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76360" y="4108320"/>
              <a:ext cx="28080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76000" y="41227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76360" y="3784680"/>
              <a:ext cx="28080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76000" y="37987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76360" y="3460680"/>
              <a:ext cx="28080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76000" y="34732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95160" y="6257880"/>
              <a:ext cx="48600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94440" y="6270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7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238400" y="6257880"/>
              <a:ext cx="48708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237680" y="6270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7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768320" y="6257880"/>
              <a:ext cx="48600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767600" y="6270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313000" y="6257880"/>
              <a:ext cx="48744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312280" y="6270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8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855880" y="6257880"/>
              <a:ext cx="48744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855160" y="6270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386160" y="6257880"/>
              <a:ext cx="48744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385440" y="6270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932280" y="6257880"/>
              <a:ext cx="48564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931560" y="6270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475160" y="6257880"/>
              <a:ext cx="48744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474440" y="6270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771280" y="650232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rot="16200000">
              <a:off x="-308880" y="5104440"/>
              <a:ext cx="1279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C/RC Price (US c/lb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70120" y="3564000"/>
              <a:ext cx="3886200" cy="25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870120" y="3564000"/>
              <a:ext cx="3886200" cy="25621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826920" y="6124680"/>
              <a:ext cx="88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826920" y="5800680"/>
              <a:ext cx="88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826920" y="5491080"/>
              <a:ext cx="88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26920" y="5167440"/>
              <a:ext cx="88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26920" y="4844880"/>
              <a:ext cx="88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826920" y="4521240"/>
              <a:ext cx="88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826920" y="4211640"/>
              <a:ext cx="88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826920" y="3887640"/>
              <a:ext cx="88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826920" y="3564000"/>
              <a:ext cx="88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V="1">
              <a:off x="870120" y="6079680"/>
              <a:ext cx="288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1415880" y="6079680"/>
              <a:ext cx="180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V="1">
              <a:off x="1944720" y="6079680"/>
              <a:ext cx="144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V="1">
              <a:off x="2489040" y="6079680"/>
              <a:ext cx="180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V="1">
              <a:off x="3033720" y="6079680"/>
              <a:ext cx="144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V="1">
              <a:off x="3562200" y="6079680"/>
              <a:ext cx="180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4108320" y="6079680"/>
              <a:ext cx="180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V="1">
              <a:off x="4651200" y="6079680"/>
              <a:ext cx="180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866880" y="5722920"/>
              <a:ext cx="109440" cy="69840"/>
            </a:xfrm>
            <a:custGeom>
              <a:avLst/>
              <a:gdLst/>
              <a:ahLst/>
              <a:rect l="l" t="t" r="r" b="b"/>
              <a:pathLst>
                <a:path w="69" h="44">
                  <a:moveTo>
                    <a:pt x="0" y="36"/>
                  </a:moveTo>
                  <a:lnTo>
                    <a:pt x="5" y="44"/>
                  </a:lnTo>
                  <a:lnTo>
                    <a:pt x="69" y="7"/>
                  </a:lnTo>
                  <a:lnTo>
                    <a:pt x="65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973080" y="5721480"/>
              <a:ext cx="119160" cy="15840"/>
            </a:xfrm>
            <a:custGeom>
              <a:avLst/>
              <a:gdLst/>
              <a:ahLst/>
              <a:rect l="l" t="t" r="r" b="b"/>
              <a:pathLst>
                <a:path w="75" h="10">
                  <a:moveTo>
                    <a:pt x="0" y="0"/>
                  </a:moveTo>
                  <a:lnTo>
                    <a:pt x="0" y="9"/>
                  </a:lnTo>
                  <a:lnTo>
                    <a:pt x="75" y="10"/>
                  </a:lnTo>
                  <a:lnTo>
                    <a:pt x="75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087560" y="5576760"/>
              <a:ext cx="114120" cy="155880"/>
            </a:xfrm>
            <a:custGeom>
              <a:avLst/>
              <a:gdLst/>
              <a:ahLst/>
              <a:rect l="l" t="t" r="r" b="b"/>
              <a:pathLst>
                <a:path w="72" h="98">
                  <a:moveTo>
                    <a:pt x="0" y="93"/>
                  </a:moveTo>
                  <a:lnTo>
                    <a:pt x="7" y="98"/>
                  </a:lnTo>
                  <a:lnTo>
                    <a:pt x="72" y="5"/>
                  </a:lnTo>
                  <a:lnTo>
                    <a:pt x="64" y="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187280" y="5226120"/>
              <a:ext cx="117720" cy="355680"/>
            </a:xfrm>
            <a:custGeom>
              <a:avLst/>
              <a:gdLst/>
              <a:ahLst/>
              <a:rect l="l" t="t" r="r" b="b"/>
              <a:pathLst>
                <a:path w="74" h="224">
                  <a:moveTo>
                    <a:pt x="0" y="222"/>
                  </a:moveTo>
                  <a:lnTo>
                    <a:pt x="9" y="224"/>
                  </a:lnTo>
                  <a:lnTo>
                    <a:pt x="74" y="2"/>
                  </a:lnTo>
                  <a:lnTo>
                    <a:pt x="65" y="0"/>
                  </a:lnTo>
                  <a:lnTo>
                    <a:pt x="0" y="22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295280" y="5191200"/>
              <a:ext cx="122400" cy="42840"/>
            </a:xfrm>
            <a:custGeom>
              <a:avLst/>
              <a:gdLst/>
              <a:ahLst/>
              <a:rect l="l" t="t" r="r" b="b"/>
              <a:pathLst>
                <a:path w="77" h="27">
                  <a:moveTo>
                    <a:pt x="0" y="19"/>
                  </a:moveTo>
                  <a:lnTo>
                    <a:pt x="3" y="27"/>
                  </a:lnTo>
                  <a:lnTo>
                    <a:pt x="77" y="8"/>
                  </a:lnTo>
                  <a:lnTo>
                    <a:pt x="7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411200" y="5089680"/>
              <a:ext cx="112680" cy="112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65"/>
                  </a:moveTo>
                  <a:lnTo>
                    <a:pt x="6" y="71"/>
                  </a:lnTo>
                  <a:lnTo>
                    <a:pt x="71" y="6"/>
                  </a:lnTo>
                  <a:lnTo>
                    <a:pt x="65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519200" y="5087880"/>
              <a:ext cx="103320" cy="15840"/>
            </a:xfrm>
            <a:custGeom>
              <a:avLst/>
              <a:gdLst/>
              <a:ahLst/>
              <a:rect l="l" t="t" r="r" b="b"/>
              <a:pathLst>
                <a:path w="65" h="10">
                  <a:moveTo>
                    <a:pt x="0" y="0"/>
                  </a:moveTo>
                  <a:lnTo>
                    <a:pt x="0" y="9"/>
                  </a:lnTo>
                  <a:lnTo>
                    <a:pt x="65" y="10"/>
                  </a:lnTo>
                  <a:lnTo>
                    <a:pt x="65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620720" y="5087880"/>
              <a:ext cx="120600" cy="58680"/>
            </a:xfrm>
            <a:custGeom>
              <a:avLst/>
              <a:gdLst/>
              <a:ahLst/>
              <a:rect l="l" t="t" r="r" b="b"/>
              <a:pathLst>
                <a:path w="76" h="37">
                  <a:moveTo>
                    <a:pt x="3" y="0"/>
                  </a:moveTo>
                  <a:lnTo>
                    <a:pt x="0" y="8"/>
                  </a:lnTo>
                  <a:lnTo>
                    <a:pt x="73" y="37"/>
                  </a:lnTo>
                  <a:lnTo>
                    <a:pt x="76" y="2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736640" y="5132520"/>
              <a:ext cx="106560" cy="41040"/>
            </a:xfrm>
            <a:custGeom>
              <a:avLst/>
              <a:gdLst/>
              <a:ahLst/>
              <a:rect l="l" t="t" r="r" b="b"/>
              <a:pathLst>
                <a:path w="67" h="26">
                  <a:moveTo>
                    <a:pt x="2" y="0"/>
                  </a:moveTo>
                  <a:lnTo>
                    <a:pt x="0" y="9"/>
                  </a:lnTo>
                  <a:lnTo>
                    <a:pt x="65" y="26"/>
                  </a:lnTo>
                  <a:lnTo>
                    <a:pt x="67" y="1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838160" y="5089680"/>
              <a:ext cx="111240" cy="83880"/>
            </a:xfrm>
            <a:custGeom>
              <a:avLst/>
              <a:gdLst/>
              <a:ahLst/>
              <a:rect l="l" t="t" r="r" b="b"/>
              <a:pathLst>
                <a:path w="70" h="53">
                  <a:moveTo>
                    <a:pt x="0" y="46"/>
                  </a:moveTo>
                  <a:lnTo>
                    <a:pt x="5" y="53"/>
                  </a:lnTo>
                  <a:lnTo>
                    <a:pt x="70" y="7"/>
                  </a:lnTo>
                  <a:lnTo>
                    <a:pt x="65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940040" y="4884840"/>
              <a:ext cx="128520" cy="212760"/>
            </a:xfrm>
            <a:custGeom>
              <a:avLst/>
              <a:gdLst/>
              <a:ahLst/>
              <a:rect l="l" t="t" r="r" b="b"/>
              <a:pathLst>
                <a:path w="81" h="134">
                  <a:moveTo>
                    <a:pt x="0" y="130"/>
                  </a:moveTo>
                  <a:lnTo>
                    <a:pt x="7" y="134"/>
                  </a:lnTo>
                  <a:lnTo>
                    <a:pt x="81" y="4"/>
                  </a:lnTo>
                  <a:lnTo>
                    <a:pt x="74" y="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057400" y="4883040"/>
              <a:ext cx="114480" cy="128520"/>
            </a:xfrm>
            <a:custGeom>
              <a:avLst/>
              <a:gdLst/>
              <a:ahLst/>
              <a:rect l="l" t="t" r="r" b="b"/>
              <a:pathLst>
                <a:path w="72" h="81">
                  <a:moveTo>
                    <a:pt x="7" y="0"/>
                  </a:moveTo>
                  <a:lnTo>
                    <a:pt x="0" y="6"/>
                  </a:lnTo>
                  <a:lnTo>
                    <a:pt x="65" y="81"/>
                  </a:lnTo>
                  <a:lnTo>
                    <a:pt x="72" y="7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158920" y="5005440"/>
              <a:ext cx="115920" cy="326880"/>
            </a:xfrm>
            <a:custGeom>
              <a:avLst/>
              <a:gdLst/>
              <a:ahLst/>
              <a:rect l="l" t="t" r="r" b="b"/>
              <a:pathLst>
                <a:path w="73" h="206">
                  <a:moveTo>
                    <a:pt x="8" y="0"/>
                  </a:moveTo>
                  <a:lnTo>
                    <a:pt x="0" y="2"/>
                  </a:lnTo>
                  <a:lnTo>
                    <a:pt x="65" y="206"/>
                  </a:lnTo>
                  <a:lnTo>
                    <a:pt x="73" y="20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263680" y="5327640"/>
              <a:ext cx="128520" cy="16812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" y="0"/>
                  </a:moveTo>
                  <a:lnTo>
                    <a:pt x="0" y="5"/>
                  </a:lnTo>
                  <a:lnTo>
                    <a:pt x="74" y="106"/>
                  </a:lnTo>
                  <a:lnTo>
                    <a:pt x="81" y="10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384280" y="5456160"/>
              <a:ext cx="106560" cy="41400"/>
            </a:xfrm>
            <a:custGeom>
              <a:avLst/>
              <a:gdLst/>
              <a:ahLst/>
              <a:rect l="l" t="t" r="r" b="b"/>
              <a:pathLst>
                <a:path w="67" h="26">
                  <a:moveTo>
                    <a:pt x="0" y="18"/>
                  </a:moveTo>
                  <a:lnTo>
                    <a:pt x="2" y="26"/>
                  </a:lnTo>
                  <a:lnTo>
                    <a:pt x="67" y="9"/>
                  </a:lnTo>
                  <a:lnTo>
                    <a:pt x="65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482920" y="5181480"/>
              <a:ext cx="115920" cy="285840"/>
            </a:xfrm>
            <a:custGeom>
              <a:avLst/>
              <a:gdLst/>
              <a:ahLst/>
              <a:rect l="l" t="t" r="r" b="b"/>
              <a:pathLst>
                <a:path w="73" h="180">
                  <a:moveTo>
                    <a:pt x="0" y="176"/>
                  </a:moveTo>
                  <a:lnTo>
                    <a:pt x="8" y="180"/>
                  </a:lnTo>
                  <a:lnTo>
                    <a:pt x="73" y="3"/>
                  </a:lnTo>
                  <a:lnTo>
                    <a:pt x="65" y="0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87680" y="5018040"/>
              <a:ext cx="128520" cy="169920"/>
            </a:xfrm>
            <a:custGeom>
              <a:avLst/>
              <a:gdLst/>
              <a:ahLst/>
              <a:rect l="l" t="t" r="r" b="b"/>
              <a:pathLst>
                <a:path w="81" h="107">
                  <a:moveTo>
                    <a:pt x="0" y="101"/>
                  </a:moveTo>
                  <a:lnTo>
                    <a:pt x="7" y="107"/>
                  </a:lnTo>
                  <a:lnTo>
                    <a:pt x="81" y="5"/>
                  </a:lnTo>
                  <a:lnTo>
                    <a:pt x="74" y="0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705040" y="4842000"/>
              <a:ext cx="114480" cy="182520"/>
            </a:xfrm>
            <a:custGeom>
              <a:avLst/>
              <a:gdLst/>
              <a:ahLst/>
              <a:rect l="l" t="t" r="r" b="b"/>
              <a:pathLst>
                <a:path w="72" h="115">
                  <a:moveTo>
                    <a:pt x="0" y="111"/>
                  </a:moveTo>
                  <a:lnTo>
                    <a:pt x="7" y="115"/>
                  </a:lnTo>
                  <a:lnTo>
                    <a:pt x="72" y="4"/>
                  </a:lnTo>
                  <a:lnTo>
                    <a:pt x="65" y="0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806560" y="4503600"/>
              <a:ext cx="115920" cy="343080"/>
            </a:xfrm>
            <a:custGeom>
              <a:avLst/>
              <a:gdLst/>
              <a:ahLst/>
              <a:rect l="l" t="t" r="r" b="b"/>
              <a:pathLst>
                <a:path w="73" h="216">
                  <a:moveTo>
                    <a:pt x="0" y="214"/>
                  </a:moveTo>
                  <a:lnTo>
                    <a:pt x="8" y="216"/>
                  </a:lnTo>
                  <a:lnTo>
                    <a:pt x="73" y="3"/>
                  </a:lnTo>
                  <a:lnTo>
                    <a:pt x="65" y="0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909880" y="4503600"/>
              <a:ext cx="131760" cy="533520"/>
            </a:xfrm>
            <a:custGeom>
              <a:avLst/>
              <a:gdLst/>
              <a:ahLst/>
              <a:rect l="l" t="t" r="r" b="b"/>
              <a:pathLst>
                <a:path w="83" h="336">
                  <a:moveTo>
                    <a:pt x="8" y="0"/>
                  </a:moveTo>
                  <a:lnTo>
                    <a:pt x="0" y="3"/>
                  </a:lnTo>
                  <a:lnTo>
                    <a:pt x="74" y="336"/>
                  </a:lnTo>
                  <a:lnTo>
                    <a:pt x="83" y="33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027240" y="4227480"/>
              <a:ext cx="119160" cy="809640"/>
            </a:xfrm>
            <a:custGeom>
              <a:avLst/>
              <a:gdLst/>
              <a:ahLst/>
              <a:rect l="l" t="t" r="r" b="b"/>
              <a:pathLst>
                <a:path w="75" h="510">
                  <a:moveTo>
                    <a:pt x="0" y="509"/>
                  </a:moveTo>
                  <a:lnTo>
                    <a:pt x="10" y="510"/>
                  </a:lnTo>
                  <a:lnTo>
                    <a:pt x="75" y="1"/>
                  </a:lnTo>
                  <a:lnTo>
                    <a:pt x="65" y="0"/>
                  </a:lnTo>
                  <a:lnTo>
                    <a:pt x="0" y="50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132000" y="4133880"/>
              <a:ext cx="111240" cy="100080"/>
            </a:xfrm>
            <a:custGeom>
              <a:avLst/>
              <a:gdLst/>
              <a:ahLst/>
              <a:rect l="l" t="t" r="r" b="b"/>
              <a:pathLst>
                <a:path w="70" h="63">
                  <a:moveTo>
                    <a:pt x="0" y="55"/>
                  </a:moveTo>
                  <a:lnTo>
                    <a:pt x="6" y="63"/>
                  </a:lnTo>
                  <a:lnTo>
                    <a:pt x="70" y="7"/>
                  </a:lnTo>
                  <a:lnTo>
                    <a:pt x="64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232080" y="4137120"/>
              <a:ext cx="131760" cy="561960"/>
            </a:xfrm>
            <a:custGeom>
              <a:avLst/>
              <a:gdLst/>
              <a:ahLst/>
              <a:rect l="l" t="t" r="r" b="b"/>
              <a:pathLst>
                <a:path w="83" h="354">
                  <a:moveTo>
                    <a:pt x="8" y="0"/>
                  </a:moveTo>
                  <a:lnTo>
                    <a:pt x="0" y="2"/>
                  </a:lnTo>
                  <a:lnTo>
                    <a:pt x="74" y="354"/>
                  </a:lnTo>
                  <a:lnTo>
                    <a:pt x="83" y="35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349800" y="4697280"/>
              <a:ext cx="117360" cy="546120"/>
            </a:xfrm>
            <a:custGeom>
              <a:avLst/>
              <a:gdLst/>
              <a:ahLst/>
              <a:rect l="l" t="t" r="r" b="b"/>
              <a:pathLst>
                <a:path w="74" h="344">
                  <a:moveTo>
                    <a:pt x="9" y="0"/>
                  </a:moveTo>
                  <a:lnTo>
                    <a:pt x="0" y="1"/>
                  </a:lnTo>
                  <a:lnTo>
                    <a:pt x="65" y="344"/>
                  </a:lnTo>
                  <a:lnTo>
                    <a:pt x="74" y="34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452760" y="4535640"/>
              <a:ext cx="119160" cy="707760"/>
            </a:xfrm>
            <a:custGeom>
              <a:avLst/>
              <a:gdLst/>
              <a:ahLst/>
              <a:rect l="l" t="t" r="r" b="b"/>
              <a:pathLst>
                <a:path w="75" h="446">
                  <a:moveTo>
                    <a:pt x="0" y="445"/>
                  </a:moveTo>
                  <a:lnTo>
                    <a:pt x="10" y="446"/>
                  </a:lnTo>
                  <a:lnTo>
                    <a:pt x="75" y="1"/>
                  </a:lnTo>
                  <a:lnTo>
                    <a:pt x="65" y="0"/>
                  </a:lnTo>
                  <a:lnTo>
                    <a:pt x="0" y="44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556080" y="3930480"/>
              <a:ext cx="131760" cy="606600"/>
            </a:xfrm>
            <a:custGeom>
              <a:avLst/>
              <a:gdLst/>
              <a:ahLst/>
              <a:rect l="l" t="t" r="r" b="b"/>
              <a:pathLst>
                <a:path w="83" h="382">
                  <a:moveTo>
                    <a:pt x="0" y="380"/>
                  </a:moveTo>
                  <a:lnTo>
                    <a:pt x="8" y="382"/>
                  </a:lnTo>
                  <a:lnTo>
                    <a:pt x="83" y="2"/>
                  </a:lnTo>
                  <a:lnTo>
                    <a:pt x="74" y="0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673440" y="3930480"/>
              <a:ext cx="117360" cy="489240"/>
            </a:xfrm>
            <a:custGeom>
              <a:avLst/>
              <a:gdLst/>
              <a:ahLst/>
              <a:rect l="l" t="t" r="r" b="b"/>
              <a:pathLst>
                <a:path w="74" h="308">
                  <a:moveTo>
                    <a:pt x="9" y="0"/>
                  </a:moveTo>
                  <a:lnTo>
                    <a:pt x="0" y="2"/>
                  </a:lnTo>
                  <a:lnTo>
                    <a:pt x="65" y="308"/>
                  </a:lnTo>
                  <a:lnTo>
                    <a:pt x="74" y="30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776760" y="4417920"/>
              <a:ext cx="118800" cy="825480"/>
            </a:xfrm>
            <a:custGeom>
              <a:avLst/>
              <a:gdLst/>
              <a:ahLst/>
              <a:rect l="l" t="t" r="r" b="b"/>
              <a:pathLst>
                <a:path w="75" h="520">
                  <a:moveTo>
                    <a:pt x="10" y="0"/>
                  </a:moveTo>
                  <a:lnTo>
                    <a:pt x="0" y="1"/>
                  </a:lnTo>
                  <a:lnTo>
                    <a:pt x="65" y="520"/>
                  </a:lnTo>
                  <a:lnTo>
                    <a:pt x="75" y="51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879720" y="5238720"/>
              <a:ext cx="13176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9" y="0"/>
                  </a:moveTo>
                  <a:lnTo>
                    <a:pt x="0" y="4"/>
                  </a:lnTo>
                  <a:lnTo>
                    <a:pt x="75" y="161"/>
                  </a:lnTo>
                  <a:lnTo>
                    <a:pt x="83" y="15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998880" y="5594400"/>
              <a:ext cx="28440" cy="120600"/>
            </a:xfrm>
            <a:custGeom>
              <a:avLst/>
              <a:gdLst/>
              <a:ahLst/>
              <a:rect l="l" t="t" r="r" b="b"/>
              <a:pathLst>
                <a:path w="18" h="76">
                  <a:moveTo>
                    <a:pt x="9" y="0"/>
                  </a:moveTo>
                  <a:lnTo>
                    <a:pt x="0" y="1"/>
                  </a:lnTo>
                  <a:lnTo>
                    <a:pt x="9" y="76"/>
                  </a:lnTo>
                  <a:lnTo>
                    <a:pt x="18" y="7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014720" y="5707080"/>
              <a:ext cx="1116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6" y="0"/>
                  </a:moveTo>
                  <a:lnTo>
                    <a:pt x="0" y="7"/>
                  </a:lnTo>
                  <a:lnTo>
                    <a:pt x="1" y="8"/>
                  </a:lnTo>
                  <a:lnTo>
                    <a:pt x="7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019400" y="570564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" y="0"/>
                  </a:moveTo>
                  <a:lnTo>
                    <a:pt x="0" y="10"/>
                  </a:lnTo>
                  <a:lnTo>
                    <a:pt x="10" y="11"/>
                  </a:lnTo>
                  <a:lnTo>
                    <a:pt x="1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027320" y="5551560"/>
              <a:ext cx="28800" cy="163440"/>
            </a:xfrm>
            <a:custGeom>
              <a:avLst/>
              <a:gdLst/>
              <a:ahLst/>
              <a:rect l="l" t="t" r="r" b="b"/>
              <a:pathLst>
                <a:path w="18" h="103">
                  <a:moveTo>
                    <a:pt x="0" y="102"/>
                  </a:moveTo>
                  <a:lnTo>
                    <a:pt x="10" y="103"/>
                  </a:lnTo>
                  <a:lnTo>
                    <a:pt x="18" y="1"/>
                  </a:lnTo>
                  <a:lnTo>
                    <a:pt x="9" y="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041720" y="5551560"/>
              <a:ext cx="15840" cy="162000"/>
            </a:xfrm>
            <a:custGeom>
              <a:avLst/>
              <a:gdLst/>
              <a:ahLst/>
              <a:rect l="l" t="t" r="r" b="b"/>
              <a:pathLst>
                <a:path w="10" h="102">
                  <a:moveTo>
                    <a:pt x="9" y="0"/>
                  </a:moveTo>
                  <a:lnTo>
                    <a:pt x="0" y="0"/>
                  </a:lnTo>
                  <a:lnTo>
                    <a:pt x="1" y="102"/>
                  </a:lnTo>
                  <a:lnTo>
                    <a:pt x="10" y="10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041720" y="5594400"/>
              <a:ext cx="30240" cy="120600"/>
            </a:xfrm>
            <a:custGeom>
              <a:avLst/>
              <a:gdLst/>
              <a:ahLst/>
              <a:rect l="l" t="t" r="r" b="b"/>
              <a:pathLst>
                <a:path w="19" h="76">
                  <a:moveTo>
                    <a:pt x="0" y="75"/>
                  </a:moveTo>
                  <a:lnTo>
                    <a:pt x="9" y="76"/>
                  </a:lnTo>
                  <a:lnTo>
                    <a:pt x="19" y="1"/>
                  </a:lnTo>
                  <a:lnTo>
                    <a:pt x="9" y="0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057560" y="558972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7" y="0"/>
                  </a:moveTo>
                  <a:lnTo>
                    <a:pt x="0" y="6"/>
                  </a:lnTo>
                  <a:lnTo>
                    <a:pt x="10" y="16"/>
                  </a:lnTo>
                  <a:lnTo>
                    <a:pt x="16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071960" y="5462640"/>
              <a:ext cx="15840" cy="147600"/>
            </a:xfrm>
            <a:custGeom>
              <a:avLst/>
              <a:gdLst/>
              <a:ahLst/>
              <a:rect l="l" t="t" r="r" b="b"/>
              <a:pathLst>
                <a:path w="10" h="93">
                  <a:moveTo>
                    <a:pt x="0" y="93"/>
                  </a:moveTo>
                  <a:lnTo>
                    <a:pt x="9" y="93"/>
                  </a:lnTo>
                  <a:lnTo>
                    <a:pt x="10" y="0"/>
                  </a:lnTo>
                  <a:lnTo>
                    <a:pt x="1" y="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073400" y="5457960"/>
              <a:ext cx="23760" cy="2520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6" y="0"/>
                  </a:moveTo>
                  <a:lnTo>
                    <a:pt x="0" y="8"/>
                  </a:lnTo>
                  <a:lnTo>
                    <a:pt x="9" y="16"/>
                  </a:lnTo>
                  <a:lnTo>
                    <a:pt x="15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086360" y="5462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9"/>
                  </a:moveTo>
                  <a:lnTo>
                    <a:pt x="9" y="10"/>
                  </a:lnTo>
                  <a:lnTo>
                    <a:pt x="10" y="2"/>
                  </a:lnTo>
                  <a:lnTo>
                    <a:pt x="1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086360" y="5386320"/>
              <a:ext cx="28440" cy="79560"/>
            </a:xfrm>
            <a:custGeom>
              <a:avLst/>
              <a:gdLst/>
              <a:ahLst/>
              <a:rect l="l" t="t" r="r" b="b"/>
              <a:pathLst>
                <a:path w="18" h="50">
                  <a:moveTo>
                    <a:pt x="0" y="47"/>
                  </a:moveTo>
                  <a:lnTo>
                    <a:pt x="8" y="50"/>
                  </a:lnTo>
                  <a:lnTo>
                    <a:pt x="18" y="2"/>
                  </a:lnTo>
                  <a:lnTo>
                    <a:pt x="9" y="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100400" y="5329080"/>
              <a:ext cx="28800" cy="60480"/>
            </a:xfrm>
            <a:custGeom>
              <a:avLst/>
              <a:gdLst/>
              <a:ahLst/>
              <a:rect l="l" t="t" r="r" b="b"/>
              <a:pathLst>
                <a:path w="18" h="38">
                  <a:moveTo>
                    <a:pt x="0" y="36"/>
                  </a:moveTo>
                  <a:lnTo>
                    <a:pt x="9" y="38"/>
                  </a:lnTo>
                  <a:lnTo>
                    <a:pt x="18" y="2"/>
                  </a:lnTo>
                  <a:lnTo>
                    <a:pt x="10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116240" y="5227560"/>
              <a:ext cx="16200" cy="103320"/>
            </a:xfrm>
            <a:custGeom>
              <a:avLst/>
              <a:gdLst/>
              <a:ahLst/>
              <a:rect l="l" t="t" r="r" b="b"/>
              <a:pathLst>
                <a:path w="10" h="65">
                  <a:moveTo>
                    <a:pt x="0" y="65"/>
                  </a:moveTo>
                  <a:lnTo>
                    <a:pt x="9" y="65"/>
                  </a:lnTo>
                  <a:lnTo>
                    <a:pt x="10" y="0"/>
                  </a:lnTo>
                  <a:lnTo>
                    <a:pt x="1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116240" y="5094360"/>
              <a:ext cx="30240" cy="135000"/>
            </a:xfrm>
            <a:custGeom>
              <a:avLst/>
              <a:gdLst/>
              <a:ahLst/>
              <a:rect l="l" t="t" r="r" b="b"/>
              <a:pathLst>
                <a:path w="19" h="85">
                  <a:moveTo>
                    <a:pt x="0" y="84"/>
                  </a:moveTo>
                  <a:lnTo>
                    <a:pt x="9" y="85"/>
                  </a:lnTo>
                  <a:lnTo>
                    <a:pt x="19" y="1"/>
                  </a:lnTo>
                  <a:lnTo>
                    <a:pt x="9" y="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130640" y="4991040"/>
              <a:ext cx="17640" cy="103320"/>
            </a:xfrm>
            <a:custGeom>
              <a:avLst/>
              <a:gdLst/>
              <a:ahLst/>
              <a:rect l="l" t="t" r="r" b="b"/>
              <a:pathLst>
                <a:path w="11" h="65">
                  <a:moveTo>
                    <a:pt x="0" y="65"/>
                  </a:moveTo>
                  <a:lnTo>
                    <a:pt x="10" y="65"/>
                  </a:lnTo>
                  <a:lnTo>
                    <a:pt x="11" y="0"/>
                  </a:lnTo>
                  <a:lnTo>
                    <a:pt x="1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130640" y="4784760"/>
              <a:ext cx="28440" cy="208080"/>
            </a:xfrm>
            <a:custGeom>
              <a:avLst/>
              <a:gdLst/>
              <a:ahLst/>
              <a:rect l="l" t="t" r="r" b="b"/>
              <a:pathLst>
                <a:path w="18" h="131">
                  <a:moveTo>
                    <a:pt x="0" y="130"/>
                  </a:moveTo>
                  <a:lnTo>
                    <a:pt x="10" y="131"/>
                  </a:lnTo>
                  <a:lnTo>
                    <a:pt x="18" y="1"/>
                  </a:lnTo>
                  <a:lnTo>
                    <a:pt x="9" y="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145040" y="4782960"/>
              <a:ext cx="27000" cy="5112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8" y="0"/>
                  </a:moveTo>
                  <a:lnTo>
                    <a:pt x="0" y="3"/>
                  </a:lnTo>
                  <a:lnTo>
                    <a:pt x="9" y="32"/>
                  </a:lnTo>
                  <a:lnTo>
                    <a:pt x="17" y="2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159080" y="4830840"/>
              <a:ext cx="17640" cy="57240"/>
            </a:xfrm>
            <a:custGeom>
              <a:avLst/>
              <a:gdLst/>
              <a:ahLst/>
              <a:rect l="l" t="t" r="r" b="b"/>
              <a:pathLst>
                <a:path w="11" h="36">
                  <a:moveTo>
                    <a:pt x="9" y="0"/>
                  </a:moveTo>
                  <a:lnTo>
                    <a:pt x="0" y="0"/>
                  </a:lnTo>
                  <a:lnTo>
                    <a:pt x="1" y="36"/>
                  </a:lnTo>
                  <a:lnTo>
                    <a:pt x="11" y="3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159080" y="4888080"/>
              <a:ext cx="30240" cy="164880"/>
            </a:xfrm>
            <a:custGeom>
              <a:avLst/>
              <a:gdLst/>
              <a:ahLst/>
              <a:rect l="l" t="t" r="r" b="b"/>
              <a:pathLst>
                <a:path w="19" h="104">
                  <a:moveTo>
                    <a:pt x="9" y="0"/>
                  </a:moveTo>
                  <a:lnTo>
                    <a:pt x="0" y="1"/>
                  </a:lnTo>
                  <a:lnTo>
                    <a:pt x="9" y="104"/>
                  </a:lnTo>
                  <a:lnTo>
                    <a:pt x="19" y="10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176720" y="50468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  <a:lnTo>
                    <a:pt x="1" y="7"/>
                  </a:lnTo>
                  <a:lnTo>
                    <a:pt x="7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173480" y="5051520"/>
              <a:ext cx="30240" cy="191880"/>
            </a:xfrm>
            <a:custGeom>
              <a:avLst/>
              <a:gdLst/>
              <a:ahLst/>
              <a:rect l="l" t="t" r="r" b="b"/>
              <a:pathLst>
                <a:path w="19" h="121">
                  <a:moveTo>
                    <a:pt x="10" y="0"/>
                  </a:moveTo>
                  <a:lnTo>
                    <a:pt x="0" y="1"/>
                  </a:lnTo>
                  <a:lnTo>
                    <a:pt x="10" y="121"/>
                  </a:lnTo>
                  <a:lnTo>
                    <a:pt x="19" y="12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189320" y="5181480"/>
              <a:ext cx="28800" cy="61920"/>
            </a:xfrm>
            <a:custGeom>
              <a:avLst/>
              <a:gdLst/>
              <a:ahLst/>
              <a:rect l="l" t="t" r="r" b="b"/>
              <a:pathLst>
                <a:path w="18" h="39">
                  <a:moveTo>
                    <a:pt x="0" y="37"/>
                  </a:moveTo>
                  <a:lnTo>
                    <a:pt x="8" y="39"/>
                  </a:lnTo>
                  <a:lnTo>
                    <a:pt x="18" y="2"/>
                  </a:lnTo>
                  <a:lnTo>
                    <a:pt x="9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203720" y="5183280"/>
              <a:ext cx="17280" cy="74520"/>
            </a:xfrm>
            <a:custGeom>
              <a:avLst/>
              <a:gdLst/>
              <a:ahLst/>
              <a:rect l="l" t="t" r="r" b="b"/>
              <a:pathLst>
                <a:path w="11" h="47">
                  <a:moveTo>
                    <a:pt x="10" y="0"/>
                  </a:moveTo>
                  <a:lnTo>
                    <a:pt x="0" y="0"/>
                  </a:lnTo>
                  <a:lnTo>
                    <a:pt x="1" y="47"/>
                  </a:lnTo>
                  <a:lnTo>
                    <a:pt x="11" y="4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203720" y="5154480"/>
              <a:ext cx="30240" cy="104760"/>
            </a:xfrm>
            <a:custGeom>
              <a:avLst/>
              <a:gdLst/>
              <a:ahLst/>
              <a:rect l="l" t="t" r="r" b="b"/>
              <a:pathLst>
                <a:path w="19" h="66">
                  <a:moveTo>
                    <a:pt x="0" y="65"/>
                  </a:moveTo>
                  <a:lnTo>
                    <a:pt x="10" y="66"/>
                  </a:lnTo>
                  <a:lnTo>
                    <a:pt x="19" y="1"/>
                  </a:lnTo>
                  <a:lnTo>
                    <a:pt x="10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219560" y="5006880"/>
              <a:ext cx="30240" cy="149400"/>
            </a:xfrm>
            <a:custGeom>
              <a:avLst/>
              <a:gdLst/>
              <a:ahLst/>
              <a:rect l="l" t="t" r="r" b="b"/>
              <a:pathLst>
                <a:path w="19" h="94">
                  <a:moveTo>
                    <a:pt x="0" y="93"/>
                  </a:moveTo>
                  <a:lnTo>
                    <a:pt x="9" y="94"/>
                  </a:lnTo>
                  <a:lnTo>
                    <a:pt x="19" y="1"/>
                  </a:lnTo>
                  <a:lnTo>
                    <a:pt x="9" y="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235400" y="500076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0"/>
                  </a:moveTo>
                  <a:lnTo>
                    <a:pt x="0" y="7"/>
                  </a:lnTo>
                  <a:lnTo>
                    <a:pt x="1" y="8"/>
                  </a:lnTo>
                  <a:lnTo>
                    <a:pt x="8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235400" y="4986360"/>
              <a:ext cx="23760" cy="2520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9"/>
                  </a:moveTo>
                  <a:lnTo>
                    <a:pt x="7" y="16"/>
                  </a:lnTo>
                  <a:lnTo>
                    <a:pt x="15" y="6"/>
                  </a:lnTo>
                  <a:lnTo>
                    <a:pt x="9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248000" y="4991040"/>
              <a:ext cx="16200" cy="44640"/>
            </a:xfrm>
            <a:custGeom>
              <a:avLst/>
              <a:gdLst/>
              <a:ahLst/>
              <a:rect l="l" t="t" r="r" b="b"/>
              <a:pathLst>
                <a:path w="10" h="28">
                  <a:moveTo>
                    <a:pt x="9" y="0"/>
                  </a:moveTo>
                  <a:lnTo>
                    <a:pt x="0" y="0"/>
                  </a:lnTo>
                  <a:lnTo>
                    <a:pt x="1" y="28"/>
                  </a:lnTo>
                  <a:lnTo>
                    <a:pt x="10" y="2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248000" y="5033880"/>
              <a:ext cx="27000" cy="61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8" y="0"/>
                  </a:moveTo>
                  <a:lnTo>
                    <a:pt x="0" y="2"/>
                  </a:lnTo>
                  <a:lnTo>
                    <a:pt x="9" y="39"/>
                  </a:lnTo>
                  <a:lnTo>
                    <a:pt x="17" y="3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268880" y="5087880"/>
              <a:ext cx="17280" cy="15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" y="0"/>
                  </a:moveTo>
                  <a:lnTo>
                    <a:pt x="0" y="9"/>
                  </a:lnTo>
                  <a:lnTo>
                    <a:pt x="10" y="10"/>
                  </a:lnTo>
                  <a:lnTo>
                    <a:pt x="1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276800" y="5094360"/>
              <a:ext cx="17280" cy="73080"/>
            </a:xfrm>
            <a:custGeom>
              <a:avLst/>
              <a:gdLst/>
              <a:ahLst/>
              <a:rect l="l" t="t" r="r" b="b"/>
              <a:pathLst>
                <a:path w="11" h="46">
                  <a:moveTo>
                    <a:pt x="10" y="0"/>
                  </a:moveTo>
                  <a:lnTo>
                    <a:pt x="0" y="0"/>
                  </a:lnTo>
                  <a:lnTo>
                    <a:pt x="1" y="46"/>
                  </a:lnTo>
                  <a:lnTo>
                    <a:pt x="11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276800" y="5165640"/>
              <a:ext cx="28440" cy="63720"/>
            </a:xfrm>
            <a:custGeom>
              <a:avLst/>
              <a:gdLst/>
              <a:ahLst/>
              <a:rect l="l" t="t" r="r" b="b"/>
              <a:pathLst>
                <a:path w="18" h="40">
                  <a:moveTo>
                    <a:pt x="9" y="0"/>
                  </a:moveTo>
                  <a:lnTo>
                    <a:pt x="0" y="2"/>
                  </a:lnTo>
                  <a:lnTo>
                    <a:pt x="10" y="40"/>
                  </a:lnTo>
                  <a:lnTo>
                    <a:pt x="18" y="3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292640" y="5154480"/>
              <a:ext cx="15840" cy="73080"/>
            </a:xfrm>
            <a:custGeom>
              <a:avLst/>
              <a:gdLst/>
              <a:ahLst/>
              <a:rect l="l" t="t" r="r" b="b"/>
              <a:pathLst>
                <a:path w="10" h="46">
                  <a:moveTo>
                    <a:pt x="0" y="46"/>
                  </a:moveTo>
                  <a:lnTo>
                    <a:pt x="9" y="46"/>
                  </a:lnTo>
                  <a:lnTo>
                    <a:pt x="10" y="0"/>
                  </a:lnTo>
                  <a:lnTo>
                    <a:pt x="1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294080" y="513396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10"/>
                  </a:moveTo>
                  <a:lnTo>
                    <a:pt x="6" y="16"/>
                  </a:lnTo>
                  <a:lnTo>
                    <a:pt x="16" y="6"/>
                  </a:lnTo>
                  <a:lnTo>
                    <a:pt x="9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313160" y="513252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" y="0"/>
                  </a:moveTo>
                  <a:lnTo>
                    <a:pt x="0" y="10"/>
                  </a:lnTo>
                  <a:lnTo>
                    <a:pt x="10" y="11"/>
                  </a:lnTo>
                  <a:lnTo>
                    <a:pt x="1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322880" y="5138640"/>
              <a:ext cx="15840" cy="249480"/>
            </a:xfrm>
            <a:custGeom>
              <a:avLst/>
              <a:gdLst/>
              <a:ahLst/>
              <a:rect l="l" t="t" r="r" b="b"/>
              <a:pathLst>
                <a:path w="10" h="157">
                  <a:moveTo>
                    <a:pt x="9" y="0"/>
                  </a:moveTo>
                  <a:lnTo>
                    <a:pt x="0" y="0"/>
                  </a:lnTo>
                  <a:lnTo>
                    <a:pt x="1" y="157"/>
                  </a:lnTo>
                  <a:lnTo>
                    <a:pt x="10" y="15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329000" y="5381640"/>
              <a:ext cx="1440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1" y="0"/>
                  </a:moveTo>
                  <a:lnTo>
                    <a:pt x="0" y="10"/>
                  </a:lnTo>
                  <a:lnTo>
                    <a:pt x="8" y="11"/>
                  </a:lnTo>
                  <a:lnTo>
                    <a:pt x="9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335480" y="5388120"/>
              <a:ext cx="17280" cy="60120"/>
            </a:xfrm>
            <a:custGeom>
              <a:avLst/>
              <a:gdLst/>
              <a:ahLst/>
              <a:rect l="l" t="t" r="r" b="b"/>
              <a:pathLst>
                <a:path w="11" h="38">
                  <a:moveTo>
                    <a:pt x="9" y="0"/>
                  </a:moveTo>
                  <a:lnTo>
                    <a:pt x="0" y="0"/>
                  </a:lnTo>
                  <a:lnTo>
                    <a:pt x="1" y="38"/>
                  </a:lnTo>
                  <a:lnTo>
                    <a:pt x="11" y="3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336920" y="544500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7" y="0"/>
                  </a:moveTo>
                  <a:lnTo>
                    <a:pt x="0" y="4"/>
                  </a:lnTo>
                  <a:lnTo>
                    <a:pt x="10" y="22"/>
                  </a:lnTo>
                  <a:lnTo>
                    <a:pt x="17" y="1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357800" y="54705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0"/>
                  </a:moveTo>
                  <a:lnTo>
                    <a:pt x="0" y="9"/>
                  </a:lnTo>
                  <a:lnTo>
                    <a:pt x="9" y="10"/>
                  </a:lnTo>
                  <a:lnTo>
                    <a:pt x="1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365720" y="5477040"/>
              <a:ext cx="15840" cy="117360"/>
            </a:xfrm>
            <a:custGeom>
              <a:avLst/>
              <a:gdLst/>
              <a:ahLst/>
              <a:rect l="l" t="t" r="r" b="b"/>
              <a:pathLst>
                <a:path w="10" h="74">
                  <a:moveTo>
                    <a:pt x="9" y="0"/>
                  </a:moveTo>
                  <a:lnTo>
                    <a:pt x="0" y="0"/>
                  </a:lnTo>
                  <a:lnTo>
                    <a:pt x="1" y="74"/>
                  </a:lnTo>
                  <a:lnTo>
                    <a:pt x="10" y="7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365720" y="5594400"/>
              <a:ext cx="28440" cy="90360"/>
            </a:xfrm>
            <a:custGeom>
              <a:avLst/>
              <a:gdLst/>
              <a:ahLst/>
              <a:rect l="l" t="t" r="r" b="b"/>
              <a:pathLst>
                <a:path w="18" h="57">
                  <a:moveTo>
                    <a:pt x="8" y="0"/>
                  </a:moveTo>
                  <a:lnTo>
                    <a:pt x="0" y="1"/>
                  </a:lnTo>
                  <a:lnTo>
                    <a:pt x="9" y="57"/>
                  </a:lnTo>
                  <a:lnTo>
                    <a:pt x="18" y="5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381560" y="568008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8" y="0"/>
                  </a:moveTo>
                  <a:lnTo>
                    <a:pt x="0" y="4"/>
                  </a:lnTo>
                  <a:lnTo>
                    <a:pt x="10" y="23"/>
                  </a:lnTo>
                  <a:lnTo>
                    <a:pt x="17" y="1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395960" y="5713560"/>
              <a:ext cx="15840" cy="44280"/>
            </a:xfrm>
            <a:custGeom>
              <a:avLst/>
              <a:gdLst/>
              <a:ahLst/>
              <a:rect l="l" t="t" r="r" b="b"/>
              <a:pathLst>
                <a:path w="10" h="28">
                  <a:moveTo>
                    <a:pt x="9" y="0"/>
                  </a:moveTo>
                  <a:lnTo>
                    <a:pt x="0" y="0"/>
                  </a:lnTo>
                  <a:lnTo>
                    <a:pt x="1" y="28"/>
                  </a:lnTo>
                  <a:lnTo>
                    <a:pt x="10" y="2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395960" y="5756400"/>
              <a:ext cx="28440" cy="75960"/>
            </a:xfrm>
            <a:custGeom>
              <a:avLst/>
              <a:gdLst/>
              <a:ahLst/>
              <a:rect l="l" t="t" r="r" b="b"/>
              <a:pathLst>
                <a:path w="18" h="48">
                  <a:moveTo>
                    <a:pt x="8" y="0"/>
                  </a:moveTo>
                  <a:lnTo>
                    <a:pt x="0" y="2"/>
                  </a:lnTo>
                  <a:lnTo>
                    <a:pt x="9" y="48"/>
                  </a:lnTo>
                  <a:lnTo>
                    <a:pt x="18" y="4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410000" y="5800680"/>
              <a:ext cx="17640" cy="3168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0" y="19"/>
                  </a:moveTo>
                  <a:lnTo>
                    <a:pt x="10" y="20"/>
                  </a:lnTo>
                  <a:lnTo>
                    <a:pt x="11" y="1"/>
                  </a:lnTo>
                  <a:lnTo>
                    <a:pt x="1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416480" y="5794200"/>
              <a:ext cx="17280" cy="162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" y="0"/>
                  </a:moveTo>
                  <a:lnTo>
                    <a:pt x="0" y="9"/>
                  </a:lnTo>
                  <a:lnTo>
                    <a:pt x="10" y="10"/>
                  </a:lnTo>
                  <a:lnTo>
                    <a:pt x="1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432320" y="5794200"/>
              <a:ext cx="14400" cy="162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1" y="0"/>
                  </a:moveTo>
                  <a:lnTo>
                    <a:pt x="0" y="9"/>
                  </a:lnTo>
                  <a:lnTo>
                    <a:pt x="8" y="10"/>
                  </a:lnTo>
                  <a:lnTo>
                    <a:pt x="9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440240" y="57960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  <a:lnTo>
                    <a:pt x="1" y="7"/>
                  </a:lnTo>
                  <a:lnTo>
                    <a:pt x="7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438800" y="5799240"/>
              <a:ext cx="28440" cy="4896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8" y="0"/>
                  </a:moveTo>
                  <a:lnTo>
                    <a:pt x="0" y="3"/>
                  </a:lnTo>
                  <a:lnTo>
                    <a:pt x="9" y="31"/>
                  </a:lnTo>
                  <a:lnTo>
                    <a:pt x="18" y="2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454640" y="584028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7" y="0"/>
                  </a:moveTo>
                  <a:lnTo>
                    <a:pt x="0" y="6"/>
                  </a:lnTo>
                  <a:lnTo>
                    <a:pt x="1" y="7"/>
                  </a:lnTo>
                  <a:lnTo>
                    <a:pt x="8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452840" y="5843520"/>
              <a:ext cx="28800" cy="4932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9" y="0"/>
                  </a:moveTo>
                  <a:lnTo>
                    <a:pt x="0" y="3"/>
                  </a:lnTo>
                  <a:lnTo>
                    <a:pt x="10" y="31"/>
                  </a:lnTo>
                  <a:lnTo>
                    <a:pt x="18" y="2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475160" y="58816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" y="0"/>
                  </a:moveTo>
                  <a:lnTo>
                    <a:pt x="0" y="10"/>
                  </a:lnTo>
                  <a:lnTo>
                    <a:pt x="9" y="11"/>
                  </a:lnTo>
                  <a:lnTo>
                    <a:pt x="1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483080" y="5888160"/>
              <a:ext cx="17640" cy="4608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10" y="0"/>
                  </a:moveTo>
                  <a:lnTo>
                    <a:pt x="0" y="0"/>
                  </a:lnTo>
                  <a:lnTo>
                    <a:pt x="1" y="29"/>
                  </a:lnTo>
                  <a:lnTo>
                    <a:pt x="11" y="2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489560" y="5927760"/>
              <a:ext cx="17280" cy="15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" y="0"/>
                  </a:moveTo>
                  <a:lnTo>
                    <a:pt x="0" y="9"/>
                  </a:lnTo>
                  <a:lnTo>
                    <a:pt x="10" y="10"/>
                  </a:lnTo>
                  <a:lnTo>
                    <a:pt x="1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498920" y="5888160"/>
              <a:ext cx="15840" cy="46080"/>
            </a:xfrm>
            <a:custGeom>
              <a:avLst/>
              <a:gdLst/>
              <a:ahLst/>
              <a:rect l="l" t="t" r="r" b="b"/>
              <a:pathLst>
                <a:path w="10" h="29">
                  <a:moveTo>
                    <a:pt x="0" y="29"/>
                  </a:moveTo>
                  <a:lnTo>
                    <a:pt x="9" y="29"/>
                  </a:lnTo>
                  <a:lnTo>
                    <a:pt x="10" y="0"/>
                  </a:lnTo>
                  <a:lnTo>
                    <a:pt x="1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498920" y="5829480"/>
              <a:ext cx="27000" cy="6156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0" y="36"/>
                  </a:moveTo>
                  <a:lnTo>
                    <a:pt x="8" y="39"/>
                  </a:lnTo>
                  <a:lnTo>
                    <a:pt x="17" y="2"/>
                  </a:lnTo>
                  <a:lnTo>
                    <a:pt x="9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513320" y="5830920"/>
              <a:ext cx="30240" cy="104760"/>
            </a:xfrm>
            <a:custGeom>
              <a:avLst/>
              <a:gdLst/>
              <a:ahLst/>
              <a:rect l="l" t="t" r="r" b="b"/>
              <a:pathLst>
                <a:path w="19" h="66">
                  <a:moveTo>
                    <a:pt x="9" y="0"/>
                  </a:moveTo>
                  <a:lnTo>
                    <a:pt x="0" y="1"/>
                  </a:lnTo>
                  <a:lnTo>
                    <a:pt x="9" y="66"/>
                  </a:lnTo>
                  <a:lnTo>
                    <a:pt x="19" y="6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527720" y="5934240"/>
              <a:ext cx="17280" cy="29880"/>
            </a:xfrm>
            <a:custGeom>
              <a:avLst/>
              <a:gdLst/>
              <a:ahLst/>
              <a:rect l="l" t="t" r="r" b="b"/>
              <a:pathLst>
                <a:path w="11" h="19">
                  <a:moveTo>
                    <a:pt x="10" y="0"/>
                  </a:moveTo>
                  <a:lnTo>
                    <a:pt x="0" y="0"/>
                  </a:lnTo>
                  <a:lnTo>
                    <a:pt x="2" y="19"/>
                  </a:lnTo>
                  <a:lnTo>
                    <a:pt x="11" y="1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527720" y="5830920"/>
              <a:ext cx="28440" cy="135000"/>
            </a:xfrm>
            <a:custGeom>
              <a:avLst/>
              <a:gdLst/>
              <a:ahLst/>
              <a:rect l="l" t="t" r="r" b="b"/>
              <a:pathLst>
                <a:path w="18" h="85">
                  <a:moveTo>
                    <a:pt x="0" y="84"/>
                  </a:moveTo>
                  <a:lnTo>
                    <a:pt x="10" y="85"/>
                  </a:lnTo>
                  <a:lnTo>
                    <a:pt x="18" y="1"/>
                  </a:lnTo>
                  <a:lnTo>
                    <a:pt x="9" y="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541760" y="5830920"/>
              <a:ext cx="30240" cy="135000"/>
            </a:xfrm>
            <a:custGeom>
              <a:avLst/>
              <a:gdLst/>
              <a:ahLst/>
              <a:rect l="l" t="t" r="r" b="b"/>
              <a:pathLst>
                <a:path w="19" h="85">
                  <a:moveTo>
                    <a:pt x="9" y="0"/>
                  </a:moveTo>
                  <a:lnTo>
                    <a:pt x="0" y="1"/>
                  </a:lnTo>
                  <a:lnTo>
                    <a:pt x="9" y="85"/>
                  </a:lnTo>
                  <a:lnTo>
                    <a:pt x="19" y="8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556160" y="5964120"/>
              <a:ext cx="17280" cy="130320"/>
            </a:xfrm>
            <a:custGeom>
              <a:avLst/>
              <a:gdLst/>
              <a:ahLst/>
              <a:rect l="l" t="t" r="r" b="b"/>
              <a:pathLst>
                <a:path w="11" h="82">
                  <a:moveTo>
                    <a:pt x="10" y="0"/>
                  </a:moveTo>
                  <a:lnTo>
                    <a:pt x="0" y="0"/>
                  </a:lnTo>
                  <a:lnTo>
                    <a:pt x="1" y="82"/>
                  </a:lnTo>
                  <a:lnTo>
                    <a:pt x="11" y="8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562640" y="6087960"/>
              <a:ext cx="1728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" y="0"/>
                  </a:moveTo>
                  <a:lnTo>
                    <a:pt x="0" y="10"/>
                  </a:lnTo>
                  <a:lnTo>
                    <a:pt x="10" y="11"/>
                  </a:lnTo>
                  <a:lnTo>
                    <a:pt x="1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572000" y="5830920"/>
              <a:ext cx="15840" cy="263520"/>
            </a:xfrm>
            <a:custGeom>
              <a:avLst/>
              <a:gdLst/>
              <a:ahLst/>
              <a:rect l="l" t="t" r="r" b="b"/>
              <a:pathLst>
                <a:path w="10" h="166">
                  <a:moveTo>
                    <a:pt x="0" y="166"/>
                  </a:moveTo>
                  <a:lnTo>
                    <a:pt x="9" y="166"/>
                  </a:lnTo>
                  <a:lnTo>
                    <a:pt x="10" y="0"/>
                  </a:lnTo>
                  <a:lnTo>
                    <a:pt x="1" y="0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572000" y="5257800"/>
              <a:ext cx="30240" cy="573120"/>
            </a:xfrm>
            <a:custGeom>
              <a:avLst/>
              <a:gdLst/>
              <a:ahLst/>
              <a:rect l="l" t="t" r="r" b="b"/>
              <a:pathLst>
                <a:path w="19" h="361">
                  <a:moveTo>
                    <a:pt x="0" y="361"/>
                  </a:moveTo>
                  <a:lnTo>
                    <a:pt x="9" y="361"/>
                  </a:lnTo>
                  <a:lnTo>
                    <a:pt x="19" y="0"/>
                  </a:lnTo>
                  <a:lnTo>
                    <a:pt x="9" y="0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586400" y="5051520"/>
              <a:ext cx="29880" cy="207720"/>
            </a:xfrm>
            <a:custGeom>
              <a:avLst/>
              <a:gdLst/>
              <a:ahLst/>
              <a:rect l="l" t="t" r="r" b="b"/>
              <a:pathLst>
                <a:path w="19" h="131">
                  <a:moveTo>
                    <a:pt x="0" y="130"/>
                  </a:moveTo>
                  <a:lnTo>
                    <a:pt x="10" y="131"/>
                  </a:lnTo>
                  <a:lnTo>
                    <a:pt x="19" y="1"/>
                  </a:lnTo>
                  <a:lnTo>
                    <a:pt x="10" y="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602240" y="4681440"/>
              <a:ext cx="15840" cy="370080"/>
            </a:xfrm>
            <a:custGeom>
              <a:avLst/>
              <a:gdLst/>
              <a:ahLst/>
              <a:rect l="l" t="t" r="r" b="b"/>
              <a:pathLst>
                <a:path w="10" h="233">
                  <a:moveTo>
                    <a:pt x="0" y="233"/>
                  </a:moveTo>
                  <a:lnTo>
                    <a:pt x="9" y="233"/>
                  </a:lnTo>
                  <a:lnTo>
                    <a:pt x="10" y="0"/>
                  </a:lnTo>
                  <a:lnTo>
                    <a:pt x="1" y="0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602240" y="4403880"/>
              <a:ext cx="28440" cy="279360"/>
            </a:xfrm>
            <a:custGeom>
              <a:avLst/>
              <a:gdLst/>
              <a:ahLst/>
              <a:rect l="l" t="t" r="r" b="b"/>
              <a:pathLst>
                <a:path w="18" h="176">
                  <a:moveTo>
                    <a:pt x="0" y="175"/>
                  </a:moveTo>
                  <a:lnTo>
                    <a:pt x="9" y="176"/>
                  </a:lnTo>
                  <a:lnTo>
                    <a:pt x="18" y="1"/>
                  </a:lnTo>
                  <a:lnTo>
                    <a:pt x="9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618080" y="4397400"/>
              <a:ext cx="1116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6" y="0"/>
                  </a:moveTo>
                  <a:lnTo>
                    <a:pt x="0" y="7"/>
                  </a:lnTo>
                  <a:lnTo>
                    <a:pt x="1" y="8"/>
                  </a:lnTo>
                  <a:lnTo>
                    <a:pt x="7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616280" y="4314960"/>
              <a:ext cx="28800" cy="90360"/>
            </a:xfrm>
            <a:custGeom>
              <a:avLst/>
              <a:gdLst/>
              <a:ahLst/>
              <a:rect l="l" t="t" r="r" b="b"/>
              <a:pathLst>
                <a:path w="18" h="57">
                  <a:moveTo>
                    <a:pt x="0" y="56"/>
                  </a:moveTo>
                  <a:lnTo>
                    <a:pt x="8" y="57"/>
                  </a:lnTo>
                  <a:lnTo>
                    <a:pt x="18" y="1"/>
                  </a:lnTo>
                  <a:lnTo>
                    <a:pt x="9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630680" y="424008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0" y="46"/>
                  </a:moveTo>
                  <a:lnTo>
                    <a:pt x="9" y="48"/>
                  </a:lnTo>
                  <a:lnTo>
                    <a:pt x="17" y="2"/>
                  </a:lnTo>
                  <a:lnTo>
                    <a:pt x="9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65280" y="6021360"/>
              <a:ext cx="17784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65280" y="5697360"/>
              <a:ext cx="17784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76360" y="5388120"/>
              <a:ext cx="28080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76360" y="5064120"/>
              <a:ext cx="28080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76360" y="4741920"/>
              <a:ext cx="28080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76360" y="4417920"/>
              <a:ext cx="28080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76360" y="4108320"/>
              <a:ext cx="28080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76360" y="3784680"/>
              <a:ext cx="28080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76360" y="3460680"/>
              <a:ext cx="28080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95160" y="6257880"/>
              <a:ext cx="48600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238400" y="6257880"/>
              <a:ext cx="48708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768320" y="6257880"/>
              <a:ext cx="48600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313000" y="6257880"/>
              <a:ext cx="48744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855880" y="6257880"/>
              <a:ext cx="48744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386160" y="6257880"/>
              <a:ext cx="48744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932280" y="6257880"/>
              <a:ext cx="48564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475160" y="6257880"/>
              <a:ext cx="48744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"/>
          <p:cNvGrpSpPr/>
          <p:nvPr/>
        </p:nvGrpSpPr>
        <p:grpSpPr>
          <a:xfrm>
            <a:off x="0" y="3287880"/>
            <a:ext cx="5065560" cy="3570120"/>
            <a:chOff x="0" y="3287880"/>
            <a:chExt cx="5065560" cy="3570120"/>
          </a:xfrm>
        </p:grpSpPr>
        <p:sp>
          <p:nvSpPr>
            <p:cNvPr id="1087" name=""/>
            <p:cNvSpPr/>
            <p:nvPr/>
          </p:nvSpPr>
          <p:spPr>
            <a:xfrm>
              <a:off x="0" y="3287880"/>
              <a:ext cx="5065560" cy="3570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919080" y="3489480"/>
              <a:ext cx="3853080" cy="2732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887400" y="6219720"/>
              <a:ext cx="65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887400" y="5769000"/>
              <a:ext cx="65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887400" y="5303880"/>
              <a:ext cx="65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87400" y="4854600"/>
              <a:ext cx="65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87400" y="4405320"/>
              <a:ext cx="65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887400" y="3940200"/>
              <a:ext cx="65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887400" y="3489480"/>
              <a:ext cx="65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919080" y="6188040"/>
              <a:ext cx="180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>
              <a:off x="1476360" y="6188040"/>
              <a:ext cx="144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2017800" y="6188040"/>
              <a:ext cx="144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2575080" y="6188040"/>
              <a:ext cx="144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3116160" y="6188040"/>
              <a:ext cx="180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V="1">
              <a:off x="3672000" y="6188040"/>
              <a:ext cx="144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V="1">
              <a:off x="4213080" y="6188040"/>
              <a:ext cx="180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V="1">
              <a:off x="4770360" y="6188040"/>
              <a:ext cx="180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027080" y="3627360"/>
              <a:ext cx="112680" cy="393840"/>
            </a:xfrm>
            <a:custGeom>
              <a:avLst/>
              <a:gdLst/>
              <a:ahLst/>
              <a:rect l="l" t="t" r="r" b="b"/>
              <a:pathLst>
                <a:path w="142" h="495">
                  <a:moveTo>
                    <a:pt x="19" y="0"/>
                  </a:moveTo>
                  <a:lnTo>
                    <a:pt x="0" y="3"/>
                  </a:lnTo>
                  <a:lnTo>
                    <a:pt x="21" y="119"/>
                  </a:lnTo>
                  <a:lnTo>
                    <a:pt x="42" y="237"/>
                  </a:lnTo>
                  <a:lnTo>
                    <a:pt x="62" y="374"/>
                  </a:lnTo>
                  <a:lnTo>
                    <a:pt x="64" y="377"/>
                  </a:lnTo>
                  <a:lnTo>
                    <a:pt x="126" y="495"/>
                  </a:lnTo>
                  <a:lnTo>
                    <a:pt x="142" y="485"/>
                  </a:lnTo>
                  <a:lnTo>
                    <a:pt x="79" y="368"/>
                  </a:lnTo>
                  <a:lnTo>
                    <a:pt x="71" y="373"/>
                  </a:lnTo>
                  <a:lnTo>
                    <a:pt x="81" y="371"/>
                  </a:lnTo>
                  <a:lnTo>
                    <a:pt x="60" y="234"/>
                  </a:lnTo>
                  <a:lnTo>
                    <a:pt x="40" y="116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127160" y="4011480"/>
              <a:ext cx="355680" cy="446400"/>
            </a:xfrm>
            <a:custGeom>
              <a:avLst/>
              <a:gdLst/>
              <a:ahLst/>
              <a:rect l="l" t="t" r="r" b="b"/>
              <a:pathLst>
                <a:path w="447" h="560">
                  <a:moveTo>
                    <a:pt x="16" y="0"/>
                  </a:moveTo>
                  <a:lnTo>
                    <a:pt x="0" y="13"/>
                  </a:lnTo>
                  <a:lnTo>
                    <a:pt x="83" y="148"/>
                  </a:lnTo>
                  <a:lnTo>
                    <a:pt x="83" y="150"/>
                  </a:lnTo>
                  <a:lnTo>
                    <a:pt x="187" y="287"/>
                  </a:lnTo>
                  <a:lnTo>
                    <a:pt x="309" y="444"/>
                  </a:lnTo>
                  <a:lnTo>
                    <a:pt x="311" y="444"/>
                  </a:lnTo>
                  <a:lnTo>
                    <a:pt x="435" y="560"/>
                  </a:lnTo>
                  <a:lnTo>
                    <a:pt x="447" y="545"/>
                  </a:lnTo>
                  <a:lnTo>
                    <a:pt x="323" y="429"/>
                  </a:lnTo>
                  <a:lnTo>
                    <a:pt x="316" y="436"/>
                  </a:lnTo>
                  <a:lnTo>
                    <a:pt x="323" y="429"/>
                  </a:lnTo>
                  <a:lnTo>
                    <a:pt x="200" y="273"/>
                  </a:lnTo>
                  <a:lnTo>
                    <a:pt x="97" y="135"/>
                  </a:lnTo>
                  <a:lnTo>
                    <a:pt x="90" y="142"/>
                  </a:lnTo>
                  <a:lnTo>
                    <a:pt x="99" y="13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473120" y="4443480"/>
              <a:ext cx="549360" cy="279360"/>
            </a:xfrm>
            <a:custGeom>
              <a:avLst/>
              <a:gdLst/>
              <a:ahLst/>
              <a:rect l="l" t="t" r="r" b="b"/>
              <a:pathLst>
                <a:path w="692" h="351">
                  <a:moveTo>
                    <a:pt x="12" y="0"/>
                  </a:moveTo>
                  <a:lnTo>
                    <a:pt x="0" y="16"/>
                  </a:lnTo>
                  <a:lnTo>
                    <a:pt x="145" y="114"/>
                  </a:lnTo>
                  <a:lnTo>
                    <a:pt x="145" y="114"/>
                  </a:lnTo>
                  <a:lnTo>
                    <a:pt x="330" y="212"/>
                  </a:lnTo>
                  <a:lnTo>
                    <a:pt x="332" y="214"/>
                  </a:lnTo>
                  <a:lnTo>
                    <a:pt x="684" y="351"/>
                  </a:lnTo>
                  <a:lnTo>
                    <a:pt x="692" y="333"/>
                  </a:lnTo>
                  <a:lnTo>
                    <a:pt x="340" y="196"/>
                  </a:lnTo>
                  <a:lnTo>
                    <a:pt x="335" y="204"/>
                  </a:lnTo>
                  <a:lnTo>
                    <a:pt x="340" y="196"/>
                  </a:lnTo>
                  <a:lnTo>
                    <a:pt x="156" y="98"/>
                  </a:lnTo>
                  <a:lnTo>
                    <a:pt x="150" y="106"/>
                  </a:lnTo>
                  <a:lnTo>
                    <a:pt x="157" y="9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014560" y="4708440"/>
              <a:ext cx="561960" cy="154080"/>
            </a:xfrm>
            <a:custGeom>
              <a:avLst/>
              <a:gdLst/>
              <a:ahLst/>
              <a:rect l="l" t="t" r="r" b="b"/>
              <a:pathLst>
                <a:path w="708" h="193">
                  <a:moveTo>
                    <a:pt x="7" y="0"/>
                  </a:moveTo>
                  <a:lnTo>
                    <a:pt x="0" y="18"/>
                  </a:lnTo>
                  <a:lnTo>
                    <a:pt x="164" y="77"/>
                  </a:lnTo>
                  <a:lnTo>
                    <a:pt x="166" y="77"/>
                  </a:lnTo>
                  <a:lnTo>
                    <a:pt x="352" y="116"/>
                  </a:lnTo>
                  <a:lnTo>
                    <a:pt x="354" y="106"/>
                  </a:lnTo>
                  <a:lnTo>
                    <a:pt x="352" y="116"/>
                  </a:lnTo>
                  <a:lnTo>
                    <a:pt x="702" y="193"/>
                  </a:lnTo>
                  <a:lnTo>
                    <a:pt x="708" y="173"/>
                  </a:lnTo>
                  <a:lnTo>
                    <a:pt x="357" y="97"/>
                  </a:lnTo>
                  <a:lnTo>
                    <a:pt x="355" y="97"/>
                  </a:lnTo>
                  <a:lnTo>
                    <a:pt x="169" y="57"/>
                  </a:lnTo>
                  <a:lnTo>
                    <a:pt x="167" y="67"/>
                  </a:lnTo>
                  <a:lnTo>
                    <a:pt x="171" y="5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573280" y="4846680"/>
              <a:ext cx="542880" cy="108000"/>
            </a:xfrm>
            <a:custGeom>
              <a:avLst/>
              <a:gdLst/>
              <a:ahLst/>
              <a:rect l="l" t="t" r="r" b="b"/>
              <a:pathLst>
                <a:path w="686" h="138">
                  <a:moveTo>
                    <a:pt x="4" y="0"/>
                  </a:moveTo>
                  <a:lnTo>
                    <a:pt x="0" y="20"/>
                  </a:lnTo>
                  <a:lnTo>
                    <a:pt x="332" y="79"/>
                  </a:lnTo>
                  <a:lnTo>
                    <a:pt x="682" y="138"/>
                  </a:lnTo>
                  <a:lnTo>
                    <a:pt x="686" y="118"/>
                  </a:lnTo>
                  <a:lnTo>
                    <a:pt x="335" y="5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116160" y="4940280"/>
              <a:ext cx="557280" cy="77760"/>
            </a:xfrm>
            <a:custGeom>
              <a:avLst/>
              <a:gdLst/>
              <a:ahLst/>
              <a:rect l="l" t="t" r="r" b="b"/>
              <a:pathLst>
                <a:path w="703" h="98">
                  <a:moveTo>
                    <a:pt x="2" y="0"/>
                  </a:moveTo>
                  <a:lnTo>
                    <a:pt x="0" y="20"/>
                  </a:lnTo>
                  <a:lnTo>
                    <a:pt x="351" y="59"/>
                  </a:lnTo>
                  <a:lnTo>
                    <a:pt x="701" y="98"/>
                  </a:lnTo>
                  <a:lnTo>
                    <a:pt x="703" y="79"/>
                  </a:lnTo>
                  <a:lnTo>
                    <a:pt x="352" y="3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027080" y="4264200"/>
              <a:ext cx="112680" cy="285480"/>
            </a:xfrm>
            <a:custGeom>
              <a:avLst/>
              <a:gdLst/>
              <a:ahLst/>
              <a:rect l="l" t="t" r="r" b="b"/>
              <a:pathLst>
                <a:path w="142" h="359">
                  <a:moveTo>
                    <a:pt x="19" y="0"/>
                  </a:moveTo>
                  <a:lnTo>
                    <a:pt x="0" y="5"/>
                  </a:lnTo>
                  <a:lnTo>
                    <a:pt x="21" y="83"/>
                  </a:lnTo>
                  <a:lnTo>
                    <a:pt x="29" y="80"/>
                  </a:lnTo>
                  <a:lnTo>
                    <a:pt x="21" y="81"/>
                  </a:lnTo>
                  <a:lnTo>
                    <a:pt x="42" y="179"/>
                  </a:lnTo>
                  <a:lnTo>
                    <a:pt x="42" y="181"/>
                  </a:lnTo>
                  <a:lnTo>
                    <a:pt x="62" y="258"/>
                  </a:lnTo>
                  <a:lnTo>
                    <a:pt x="64" y="261"/>
                  </a:lnTo>
                  <a:lnTo>
                    <a:pt x="126" y="359"/>
                  </a:lnTo>
                  <a:lnTo>
                    <a:pt x="142" y="346"/>
                  </a:lnTo>
                  <a:lnTo>
                    <a:pt x="79" y="248"/>
                  </a:lnTo>
                  <a:lnTo>
                    <a:pt x="71" y="255"/>
                  </a:lnTo>
                  <a:lnTo>
                    <a:pt x="81" y="253"/>
                  </a:lnTo>
                  <a:lnTo>
                    <a:pt x="60" y="176"/>
                  </a:lnTo>
                  <a:lnTo>
                    <a:pt x="50" y="178"/>
                  </a:lnTo>
                  <a:lnTo>
                    <a:pt x="60" y="176"/>
                  </a:lnTo>
                  <a:lnTo>
                    <a:pt x="40" y="78"/>
                  </a:lnTo>
                  <a:lnTo>
                    <a:pt x="40" y="7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127160" y="4538520"/>
              <a:ext cx="353880" cy="306360"/>
            </a:xfrm>
            <a:custGeom>
              <a:avLst/>
              <a:gdLst/>
              <a:ahLst/>
              <a:rect l="l" t="t" r="r" b="b"/>
              <a:pathLst>
                <a:path w="446" h="386">
                  <a:moveTo>
                    <a:pt x="14" y="0"/>
                  </a:moveTo>
                  <a:lnTo>
                    <a:pt x="0" y="15"/>
                  </a:lnTo>
                  <a:lnTo>
                    <a:pt x="83" y="113"/>
                  </a:lnTo>
                  <a:lnTo>
                    <a:pt x="85" y="113"/>
                  </a:lnTo>
                  <a:lnTo>
                    <a:pt x="188" y="211"/>
                  </a:lnTo>
                  <a:lnTo>
                    <a:pt x="188" y="211"/>
                  </a:lnTo>
                  <a:lnTo>
                    <a:pt x="311" y="309"/>
                  </a:lnTo>
                  <a:lnTo>
                    <a:pt x="311" y="309"/>
                  </a:lnTo>
                  <a:lnTo>
                    <a:pt x="435" y="386"/>
                  </a:lnTo>
                  <a:lnTo>
                    <a:pt x="446" y="369"/>
                  </a:lnTo>
                  <a:lnTo>
                    <a:pt x="321" y="293"/>
                  </a:lnTo>
                  <a:lnTo>
                    <a:pt x="316" y="301"/>
                  </a:lnTo>
                  <a:lnTo>
                    <a:pt x="323" y="293"/>
                  </a:lnTo>
                  <a:lnTo>
                    <a:pt x="200" y="195"/>
                  </a:lnTo>
                  <a:lnTo>
                    <a:pt x="193" y="203"/>
                  </a:lnTo>
                  <a:lnTo>
                    <a:pt x="200" y="196"/>
                  </a:lnTo>
                  <a:lnTo>
                    <a:pt x="97" y="98"/>
                  </a:lnTo>
                  <a:lnTo>
                    <a:pt x="90" y="105"/>
                  </a:lnTo>
                  <a:lnTo>
                    <a:pt x="97" y="9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473120" y="4832280"/>
              <a:ext cx="547920" cy="216000"/>
            </a:xfrm>
            <a:custGeom>
              <a:avLst/>
              <a:gdLst/>
              <a:ahLst/>
              <a:rect l="l" t="t" r="r" b="b"/>
              <a:pathLst>
                <a:path w="691" h="273">
                  <a:moveTo>
                    <a:pt x="11" y="0"/>
                  </a:moveTo>
                  <a:lnTo>
                    <a:pt x="0" y="17"/>
                  </a:lnTo>
                  <a:lnTo>
                    <a:pt x="145" y="95"/>
                  </a:lnTo>
                  <a:lnTo>
                    <a:pt x="147" y="97"/>
                  </a:lnTo>
                  <a:lnTo>
                    <a:pt x="332" y="156"/>
                  </a:lnTo>
                  <a:lnTo>
                    <a:pt x="684" y="273"/>
                  </a:lnTo>
                  <a:lnTo>
                    <a:pt x="691" y="255"/>
                  </a:lnTo>
                  <a:lnTo>
                    <a:pt x="339" y="138"/>
                  </a:lnTo>
                  <a:lnTo>
                    <a:pt x="154" y="79"/>
                  </a:lnTo>
                  <a:lnTo>
                    <a:pt x="150" y="87"/>
                  </a:lnTo>
                  <a:lnTo>
                    <a:pt x="156" y="7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016000" y="5033880"/>
              <a:ext cx="559080" cy="108000"/>
            </a:xfrm>
            <a:custGeom>
              <a:avLst/>
              <a:gdLst/>
              <a:ahLst/>
              <a:rect l="l" t="t" r="r" b="b"/>
              <a:pathLst>
                <a:path w="704" h="136">
                  <a:moveTo>
                    <a:pt x="5" y="0"/>
                  </a:moveTo>
                  <a:lnTo>
                    <a:pt x="0" y="18"/>
                  </a:lnTo>
                  <a:lnTo>
                    <a:pt x="350" y="97"/>
                  </a:lnTo>
                  <a:lnTo>
                    <a:pt x="352" y="97"/>
                  </a:lnTo>
                  <a:lnTo>
                    <a:pt x="702" y="136"/>
                  </a:lnTo>
                  <a:lnTo>
                    <a:pt x="704" y="116"/>
                  </a:lnTo>
                  <a:lnTo>
                    <a:pt x="353" y="77"/>
                  </a:lnTo>
                  <a:lnTo>
                    <a:pt x="352" y="87"/>
                  </a:lnTo>
                  <a:lnTo>
                    <a:pt x="355" y="7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575080" y="5126040"/>
              <a:ext cx="541080" cy="76320"/>
            </a:xfrm>
            <a:custGeom>
              <a:avLst/>
              <a:gdLst/>
              <a:ahLst/>
              <a:rect l="l" t="t" r="r" b="b"/>
              <a:pathLst>
                <a:path w="684" h="97">
                  <a:moveTo>
                    <a:pt x="2" y="0"/>
                  </a:moveTo>
                  <a:lnTo>
                    <a:pt x="0" y="20"/>
                  </a:lnTo>
                  <a:lnTo>
                    <a:pt x="682" y="97"/>
                  </a:lnTo>
                  <a:lnTo>
                    <a:pt x="684" y="7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116160" y="5187960"/>
              <a:ext cx="557280" cy="61920"/>
            </a:xfrm>
            <a:custGeom>
              <a:avLst/>
              <a:gdLst/>
              <a:ahLst/>
              <a:rect l="l" t="t" r="r" b="b"/>
              <a:pathLst>
                <a:path w="703" h="79">
                  <a:moveTo>
                    <a:pt x="2" y="0"/>
                  </a:moveTo>
                  <a:lnTo>
                    <a:pt x="0" y="20"/>
                  </a:lnTo>
                  <a:lnTo>
                    <a:pt x="351" y="59"/>
                  </a:lnTo>
                  <a:lnTo>
                    <a:pt x="701" y="79"/>
                  </a:lnTo>
                  <a:lnTo>
                    <a:pt x="703" y="59"/>
                  </a:lnTo>
                  <a:lnTo>
                    <a:pt x="352" y="3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672000" y="5234040"/>
              <a:ext cx="542880" cy="61920"/>
            </a:xfrm>
            <a:custGeom>
              <a:avLst/>
              <a:gdLst/>
              <a:ahLst/>
              <a:rect l="l" t="t" r="r" b="b"/>
              <a:pathLst>
                <a:path w="684" h="78">
                  <a:moveTo>
                    <a:pt x="2" y="0"/>
                  </a:moveTo>
                  <a:lnTo>
                    <a:pt x="0" y="20"/>
                  </a:lnTo>
                  <a:lnTo>
                    <a:pt x="682" y="78"/>
                  </a:lnTo>
                  <a:lnTo>
                    <a:pt x="684" y="5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70040" y="6141960"/>
              <a:ext cx="730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72920" y="6153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95160" y="5691240"/>
              <a:ext cx="1479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03080" y="5702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23880" y="5226120"/>
              <a:ext cx="2192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32880" y="52372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23880" y="4776840"/>
              <a:ext cx="2192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32880" y="47880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23880" y="4327560"/>
              <a:ext cx="2192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32880" y="43387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23880" y="3862440"/>
              <a:ext cx="2192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32880" y="38718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23880" y="3411360"/>
              <a:ext cx="2192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32880" y="34225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87400" y="6311880"/>
              <a:ext cx="7452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887040" y="6323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411200" y="6311880"/>
              <a:ext cx="1461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410840" y="6323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919160" y="6311880"/>
              <a:ext cx="2192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918440" y="63230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475000" y="6311880"/>
              <a:ext cx="2206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474280" y="63230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000240" y="6311880"/>
              <a:ext cx="2192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999520" y="63230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557520" y="6311880"/>
              <a:ext cx="2206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556800" y="63230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098960" y="6311880"/>
              <a:ext cx="2188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098240" y="63230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656240" y="6311880"/>
              <a:ext cx="2188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655520" y="63230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558800" y="6451560"/>
              <a:ext cx="2552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887400" y="6219720"/>
              <a:ext cx="65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87400" y="5769000"/>
              <a:ext cx="65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887400" y="5303880"/>
              <a:ext cx="65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887400" y="4854600"/>
              <a:ext cx="65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887400" y="4405320"/>
              <a:ext cx="65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87400" y="3940200"/>
              <a:ext cx="65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887400" y="3489480"/>
              <a:ext cx="65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V="1">
              <a:off x="919080" y="6188040"/>
              <a:ext cx="180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V="1">
              <a:off x="1476360" y="6188040"/>
              <a:ext cx="144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2017800" y="6188040"/>
              <a:ext cx="144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V="1">
              <a:off x="2575080" y="6188040"/>
              <a:ext cx="144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V="1">
              <a:off x="3116160" y="6188040"/>
              <a:ext cx="180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V="1">
              <a:off x="3672000" y="6188040"/>
              <a:ext cx="144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V="1">
              <a:off x="4213080" y="6188040"/>
              <a:ext cx="180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V="1">
              <a:off x="4770360" y="6188040"/>
              <a:ext cx="180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672000" y="5002200"/>
              <a:ext cx="542880" cy="61920"/>
            </a:xfrm>
            <a:custGeom>
              <a:avLst/>
              <a:gdLst/>
              <a:ahLst/>
              <a:rect l="l" t="t" r="r" b="b"/>
              <a:pathLst>
                <a:path w="684" h="78">
                  <a:moveTo>
                    <a:pt x="2" y="0"/>
                  </a:moveTo>
                  <a:lnTo>
                    <a:pt x="0" y="19"/>
                  </a:lnTo>
                  <a:lnTo>
                    <a:pt x="682" y="78"/>
                  </a:lnTo>
                  <a:lnTo>
                    <a:pt x="684" y="5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672000" y="5234040"/>
              <a:ext cx="542880" cy="61920"/>
            </a:xfrm>
            <a:custGeom>
              <a:avLst/>
              <a:gdLst/>
              <a:ahLst/>
              <a:rect l="l" t="t" r="r" b="b"/>
              <a:pathLst>
                <a:path w="684" h="78">
                  <a:moveTo>
                    <a:pt x="2" y="0"/>
                  </a:moveTo>
                  <a:lnTo>
                    <a:pt x="0" y="20"/>
                  </a:lnTo>
                  <a:lnTo>
                    <a:pt x="682" y="78"/>
                  </a:lnTo>
                  <a:lnTo>
                    <a:pt x="684" y="5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70040" y="6141960"/>
              <a:ext cx="730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72920" y="6153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95160" y="5691240"/>
              <a:ext cx="1479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03080" y="5702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23880" y="5226120"/>
              <a:ext cx="2192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32880" y="52372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23880" y="4776840"/>
              <a:ext cx="2192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32880" y="47880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623880" y="4327560"/>
              <a:ext cx="2192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32880" y="43387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23880" y="3862440"/>
              <a:ext cx="2192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32880" y="38718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23880" y="3411360"/>
              <a:ext cx="2192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32880" y="34225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87400" y="6311880"/>
              <a:ext cx="7452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887040" y="6323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411200" y="6311880"/>
              <a:ext cx="1461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410840" y="6323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919160" y="6311880"/>
              <a:ext cx="2192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918440" y="63230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475000" y="6311880"/>
              <a:ext cx="2206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474280" y="63230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000240" y="6311880"/>
              <a:ext cx="2192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999520" y="63230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557520" y="6311880"/>
              <a:ext cx="2206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556800" y="63230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098960" y="6311880"/>
              <a:ext cx="2188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098240" y="63230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656240" y="6311880"/>
              <a:ext cx="2188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655520" y="63230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996920" y="6500880"/>
              <a:ext cx="1735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opper Production ('000 tpa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rot="16200000">
              <a:off x="-550080" y="4888440"/>
              <a:ext cx="175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pital costs (US c per lb pa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598920" y="5392800"/>
              <a:ext cx="45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pru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629520" y="4697280"/>
              <a:ext cx="43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mel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9" name=""/>
          <p:cNvGrpSpPr/>
          <p:nvPr/>
        </p:nvGrpSpPr>
        <p:grpSpPr>
          <a:xfrm>
            <a:off x="0" y="3287880"/>
            <a:ext cx="5065560" cy="3570120"/>
            <a:chOff x="0" y="3287880"/>
            <a:chExt cx="5065560" cy="3570120"/>
          </a:xfrm>
        </p:grpSpPr>
        <p:sp>
          <p:nvSpPr>
            <p:cNvPr id="1200" name=""/>
            <p:cNvSpPr/>
            <p:nvPr/>
          </p:nvSpPr>
          <p:spPr>
            <a:xfrm>
              <a:off x="0" y="3287880"/>
              <a:ext cx="5065560" cy="3570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920880" y="3473280"/>
              <a:ext cx="3852720" cy="277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920880" y="3473280"/>
              <a:ext cx="3852720" cy="2779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887400" y="6251400"/>
              <a:ext cx="651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887400" y="5943600"/>
              <a:ext cx="65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887400" y="5634000"/>
              <a:ext cx="651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887400" y="5326200"/>
              <a:ext cx="65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887400" y="5016600"/>
              <a:ext cx="65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887400" y="4707000"/>
              <a:ext cx="65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887400" y="4398840"/>
              <a:ext cx="651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887400" y="4089240"/>
              <a:ext cx="651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887400" y="3781440"/>
              <a:ext cx="65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887400" y="3473280"/>
              <a:ext cx="651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V="1">
              <a:off x="920880" y="6217920"/>
              <a:ext cx="1440" cy="6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V="1">
              <a:off x="1469880" y="6217920"/>
              <a:ext cx="1800" cy="6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V="1">
              <a:off x="2019240" y="6217920"/>
              <a:ext cx="1800" cy="6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V="1">
              <a:off x="2570040" y="6217920"/>
              <a:ext cx="1800" cy="6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3121200" y="6217920"/>
              <a:ext cx="1440" cy="6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V="1">
              <a:off x="3670200" y="6217920"/>
              <a:ext cx="1800" cy="6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4221000" y="6217920"/>
              <a:ext cx="1800" cy="6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flipV="1">
              <a:off x="4772160" y="6217920"/>
              <a:ext cx="1440" cy="6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025640" y="3763800"/>
              <a:ext cx="126720" cy="540000"/>
            </a:xfrm>
            <a:custGeom>
              <a:avLst/>
              <a:gdLst/>
              <a:ahLst/>
              <a:rect l="l" t="t" r="r" b="b"/>
              <a:pathLst>
                <a:path w="160" h="679">
                  <a:moveTo>
                    <a:pt x="18" y="0"/>
                  </a:moveTo>
                  <a:lnTo>
                    <a:pt x="0" y="2"/>
                  </a:lnTo>
                  <a:lnTo>
                    <a:pt x="20" y="166"/>
                  </a:lnTo>
                  <a:lnTo>
                    <a:pt x="20" y="168"/>
                  </a:lnTo>
                  <a:lnTo>
                    <a:pt x="62" y="332"/>
                  </a:lnTo>
                  <a:lnTo>
                    <a:pt x="71" y="329"/>
                  </a:lnTo>
                  <a:lnTo>
                    <a:pt x="62" y="330"/>
                  </a:lnTo>
                  <a:lnTo>
                    <a:pt x="82" y="515"/>
                  </a:lnTo>
                  <a:lnTo>
                    <a:pt x="82" y="517"/>
                  </a:lnTo>
                  <a:lnTo>
                    <a:pt x="143" y="679"/>
                  </a:lnTo>
                  <a:lnTo>
                    <a:pt x="160" y="673"/>
                  </a:lnTo>
                  <a:lnTo>
                    <a:pt x="99" y="510"/>
                  </a:lnTo>
                  <a:lnTo>
                    <a:pt x="91" y="513"/>
                  </a:lnTo>
                  <a:lnTo>
                    <a:pt x="101" y="513"/>
                  </a:lnTo>
                  <a:lnTo>
                    <a:pt x="81" y="329"/>
                  </a:lnTo>
                  <a:lnTo>
                    <a:pt x="81" y="327"/>
                  </a:lnTo>
                  <a:lnTo>
                    <a:pt x="38" y="163"/>
                  </a:lnTo>
                  <a:lnTo>
                    <a:pt x="28" y="164"/>
                  </a:lnTo>
                  <a:lnTo>
                    <a:pt x="38" y="16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139760" y="4299120"/>
              <a:ext cx="336600" cy="545760"/>
            </a:xfrm>
            <a:custGeom>
              <a:avLst/>
              <a:gdLst/>
              <a:ahLst/>
              <a:rect l="l" t="t" r="r" b="b"/>
              <a:pathLst>
                <a:path w="424" h="687">
                  <a:moveTo>
                    <a:pt x="17" y="0"/>
                  </a:moveTo>
                  <a:lnTo>
                    <a:pt x="0" y="8"/>
                  </a:lnTo>
                  <a:lnTo>
                    <a:pt x="81" y="193"/>
                  </a:lnTo>
                  <a:lnTo>
                    <a:pt x="83" y="193"/>
                  </a:lnTo>
                  <a:lnTo>
                    <a:pt x="165" y="357"/>
                  </a:lnTo>
                  <a:lnTo>
                    <a:pt x="165" y="360"/>
                  </a:lnTo>
                  <a:lnTo>
                    <a:pt x="287" y="543"/>
                  </a:lnTo>
                  <a:lnTo>
                    <a:pt x="410" y="687"/>
                  </a:lnTo>
                  <a:lnTo>
                    <a:pt x="424" y="672"/>
                  </a:lnTo>
                  <a:lnTo>
                    <a:pt x="300" y="528"/>
                  </a:lnTo>
                  <a:lnTo>
                    <a:pt x="179" y="345"/>
                  </a:lnTo>
                  <a:lnTo>
                    <a:pt x="172" y="352"/>
                  </a:lnTo>
                  <a:lnTo>
                    <a:pt x="181" y="347"/>
                  </a:lnTo>
                  <a:lnTo>
                    <a:pt x="98" y="182"/>
                  </a:lnTo>
                  <a:lnTo>
                    <a:pt x="89" y="188"/>
                  </a:lnTo>
                  <a:lnTo>
                    <a:pt x="98" y="18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467000" y="4830840"/>
              <a:ext cx="556920" cy="323640"/>
            </a:xfrm>
            <a:custGeom>
              <a:avLst/>
              <a:gdLst/>
              <a:ahLst/>
              <a:rect l="l" t="t" r="r" b="b"/>
              <a:pathLst>
                <a:path w="702" h="409">
                  <a:moveTo>
                    <a:pt x="12" y="0"/>
                  </a:moveTo>
                  <a:lnTo>
                    <a:pt x="0" y="17"/>
                  </a:lnTo>
                  <a:lnTo>
                    <a:pt x="162" y="141"/>
                  </a:lnTo>
                  <a:lnTo>
                    <a:pt x="162" y="141"/>
                  </a:lnTo>
                  <a:lnTo>
                    <a:pt x="325" y="243"/>
                  </a:lnTo>
                  <a:lnTo>
                    <a:pt x="327" y="244"/>
                  </a:lnTo>
                  <a:lnTo>
                    <a:pt x="511" y="326"/>
                  </a:lnTo>
                  <a:lnTo>
                    <a:pt x="693" y="409"/>
                  </a:lnTo>
                  <a:lnTo>
                    <a:pt x="702" y="390"/>
                  </a:lnTo>
                  <a:lnTo>
                    <a:pt x="519" y="307"/>
                  </a:lnTo>
                  <a:lnTo>
                    <a:pt x="335" y="226"/>
                  </a:lnTo>
                  <a:lnTo>
                    <a:pt x="330" y="234"/>
                  </a:lnTo>
                  <a:lnTo>
                    <a:pt x="335" y="226"/>
                  </a:lnTo>
                  <a:lnTo>
                    <a:pt x="172" y="124"/>
                  </a:lnTo>
                  <a:lnTo>
                    <a:pt x="167" y="133"/>
                  </a:lnTo>
                  <a:lnTo>
                    <a:pt x="174" y="1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017800" y="5140440"/>
              <a:ext cx="555480" cy="160200"/>
            </a:xfrm>
            <a:custGeom>
              <a:avLst/>
              <a:gdLst/>
              <a:ahLst/>
              <a:rect l="l" t="t" r="r" b="b"/>
              <a:pathLst>
                <a:path w="700" h="202">
                  <a:moveTo>
                    <a:pt x="7" y="0"/>
                  </a:moveTo>
                  <a:lnTo>
                    <a:pt x="0" y="19"/>
                  </a:lnTo>
                  <a:lnTo>
                    <a:pt x="164" y="80"/>
                  </a:lnTo>
                  <a:lnTo>
                    <a:pt x="165" y="80"/>
                  </a:lnTo>
                  <a:lnTo>
                    <a:pt x="349" y="120"/>
                  </a:lnTo>
                  <a:lnTo>
                    <a:pt x="351" y="110"/>
                  </a:lnTo>
                  <a:lnTo>
                    <a:pt x="349" y="120"/>
                  </a:lnTo>
                  <a:lnTo>
                    <a:pt x="695" y="202"/>
                  </a:lnTo>
                  <a:lnTo>
                    <a:pt x="700" y="183"/>
                  </a:lnTo>
                  <a:lnTo>
                    <a:pt x="354" y="102"/>
                  </a:lnTo>
                  <a:lnTo>
                    <a:pt x="353" y="100"/>
                  </a:lnTo>
                  <a:lnTo>
                    <a:pt x="169" y="59"/>
                  </a:lnTo>
                  <a:lnTo>
                    <a:pt x="167" y="69"/>
                  </a:lnTo>
                  <a:lnTo>
                    <a:pt x="171" y="6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568600" y="5284800"/>
              <a:ext cx="554040" cy="96840"/>
            </a:xfrm>
            <a:custGeom>
              <a:avLst/>
              <a:gdLst/>
              <a:ahLst/>
              <a:rect l="l" t="t" r="r" b="b"/>
              <a:pathLst>
                <a:path w="697" h="124">
                  <a:moveTo>
                    <a:pt x="4" y="0"/>
                  </a:moveTo>
                  <a:lnTo>
                    <a:pt x="0" y="21"/>
                  </a:lnTo>
                  <a:lnTo>
                    <a:pt x="348" y="83"/>
                  </a:lnTo>
                  <a:lnTo>
                    <a:pt x="350" y="83"/>
                  </a:lnTo>
                  <a:lnTo>
                    <a:pt x="695" y="124"/>
                  </a:lnTo>
                  <a:lnTo>
                    <a:pt x="697" y="104"/>
                  </a:lnTo>
                  <a:lnTo>
                    <a:pt x="351" y="63"/>
                  </a:lnTo>
                  <a:lnTo>
                    <a:pt x="350" y="73"/>
                  </a:lnTo>
                  <a:lnTo>
                    <a:pt x="351" y="6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119400" y="5365800"/>
              <a:ext cx="552600" cy="96840"/>
            </a:xfrm>
            <a:custGeom>
              <a:avLst/>
              <a:gdLst/>
              <a:ahLst/>
              <a:rect l="l" t="t" r="r" b="b"/>
              <a:pathLst>
                <a:path w="696" h="122">
                  <a:moveTo>
                    <a:pt x="3" y="0"/>
                  </a:moveTo>
                  <a:lnTo>
                    <a:pt x="0" y="20"/>
                  </a:lnTo>
                  <a:lnTo>
                    <a:pt x="347" y="81"/>
                  </a:lnTo>
                  <a:lnTo>
                    <a:pt x="349" y="81"/>
                  </a:lnTo>
                  <a:lnTo>
                    <a:pt x="695" y="122"/>
                  </a:lnTo>
                  <a:lnTo>
                    <a:pt x="696" y="101"/>
                  </a:lnTo>
                  <a:lnTo>
                    <a:pt x="351" y="61"/>
                  </a:lnTo>
                  <a:lnTo>
                    <a:pt x="349" y="71"/>
                  </a:lnTo>
                  <a:lnTo>
                    <a:pt x="351" y="6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670200" y="5446800"/>
              <a:ext cx="552600" cy="66600"/>
            </a:xfrm>
            <a:custGeom>
              <a:avLst/>
              <a:gdLst/>
              <a:ahLst/>
              <a:rect l="l" t="t" r="r" b="b"/>
              <a:pathLst>
                <a:path w="695" h="83">
                  <a:moveTo>
                    <a:pt x="1" y="0"/>
                  </a:moveTo>
                  <a:lnTo>
                    <a:pt x="0" y="21"/>
                  </a:lnTo>
                  <a:lnTo>
                    <a:pt x="346" y="61"/>
                  </a:lnTo>
                  <a:lnTo>
                    <a:pt x="693" y="83"/>
                  </a:lnTo>
                  <a:lnTo>
                    <a:pt x="695" y="63"/>
                  </a:lnTo>
                  <a:lnTo>
                    <a:pt x="347" y="4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027080" y="4427640"/>
              <a:ext cx="125280" cy="156960"/>
            </a:xfrm>
            <a:custGeom>
              <a:avLst/>
              <a:gdLst/>
              <a:ahLst/>
              <a:rect l="l" t="t" r="r" b="b"/>
              <a:pathLst>
                <a:path w="157" h="198">
                  <a:moveTo>
                    <a:pt x="16" y="0"/>
                  </a:moveTo>
                  <a:lnTo>
                    <a:pt x="0" y="10"/>
                  </a:lnTo>
                  <a:lnTo>
                    <a:pt x="21" y="51"/>
                  </a:lnTo>
                  <a:lnTo>
                    <a:pt x="22" y="54"/>
                  </a:lnTo>
                  <a:lnTo>
                    <a:pt x="64" y="95"/>
                  </a:lnTo>
                  <a:lnTo>
                    <a:pt x="70" y="87"/>
                  </a:lnTo>
                  <a:lnTo>
                    <a:pt x="61" y="90"/>
                  </a:lnTo>
                  <a:lnTo>
                    <a:pt x="81" y="153"/>
                  </a:lnTo>
                  <a:lnTo>
                    <a:pt x="83" y="156"/>
                  </a:lnTo>
                  <a:lnTo>
                    <a:pt x="85" y="158"/>
                  </a:lnTo>
                  <a:lnTo>
                    <a:pt x="145" y="198"/>
                  </a:lnTo>
                  <a:lnTo>
                    <a:pt x="157" y="181"/>
                  </a:lnTo>
                  <a:lnTo>
                    <a:pt x="97" y="141"/>
                  </a:lnTo>
                  <a:lnTo>
                    <a:pt x="90" y="149"/>
                  </a:lnTo>
                  <a:lnTo>
                    <a:pt x="100" y="148"/>
                  </a:lnTo>
                  <a:lnTo>
                    <a:pt x="80" y="85"/>
                  </a:lnTo>
                  <a:lnTo>
                    <a:pt x="76" y="80"/>
                  </a:lnTo>
                  <a:lnTo>
                    <a:pt x="76" y="80"/>
                  </a:lnTo>
                  <a:lnTo>
                    <a:pt x="34" y="39"/>
                  </a:lnTo>
                  <a:lnTo>
                    <a:pt x="27" y="46"/>
                  </a:lnTo>
                  <a:lnTo>
                    <a:pt x="36" y="4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143000" y="4572000"/>
              <a:ext cx="330120" cy="193680"/>
            </a:xfrm>
            <a:custGeom>
              <a:avLst/>
              <a:gdLst/>
              <a:ahLst/>
              <a:rect l="l" t="t" r="r" b="b"/>
              <a:pathLst>
                <a:path w="417" h="244">
                  <a:moveTo>
                    <a:pt x="12" y="0"/>
                  </a:moveTo>
                  <a:lnTo>
                    <a:pt x="0" y="17"/>
                  </a:lnTo>
                  <a:lnTo>
                    <a:pt x="81" y="78"/>
                  </a:lnTo>
                  <a:lnTo>
                    <a:pt x="164" y="139"/>
                  </a:lnTo>
                  <a:lnTo>
                    <a:pt x="166" y="141"/>
                  </a:lnTo>
                  <a:lnTo>
                    <a:pt x="287" y="202"/>
                  </a:lnTo>
                  <a:lnTo>
                    <a:pt x="287" y="202"/>
                  </a:lnTo>
                  <a:lnTo>
                    <a:pt x="410" y="244"/>
                  </a:lnTo>
                  <a:lnTo>
                    <a:pt x="417" y="226"/>
                  </a:lnTo>
                  <a:lnTo>
                    <a:pt x="294" y="183"/>
                  </a:lnTo>
                  <a:lnTo>
                    <a:pt x="291" y="192"/>
                  </a:lnTo>
                  <a:lnTo>
                    <a:pt x="296" y="183"/>
                  </a:lnTo>
                  <a:lnTo>
                    <a:pt x="174" y="122"/>
                  </a:lnTo>
                  <a:lnTo>
                    <a:pt x="169" y="131"/>
                  </a:lnTo>
                  <a:lnTo>
                    <a:pt x="176" y="122"/>
                  </a:lnTo>
                  <a:lnTo>
                    <a:pt x="93" y="6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469880" y="4749840"/>
              <a:ext cx="551160" cy="112680"/>
            </a:xfrm>
            <a:custGeom>
              <a:avLst/>
              <a:gdLst/>
              <a:ahLst/>
              <a:rect l="l" t="t" r="r" b="b"/>
              <a:pathLst>
                <a:path w="695" h="140">
                  <a:moveTo>
                    <a:pt x="5" y="0"/>
                  </a:moveTo>
                  <a:lnTo>
                    <a:pt x="0" y="18"/>
                  </a:lnTo>
                  <a:lnTo>
                    <a:pt x="162" y="59"/>
                  </a:lnTo>
                  <a:lnTo>
                    <a:pt x="164" y="59"/>
                  </a:lnTo>
                  <a:lnTo>
                    <a:pt x="327" y="79"/>
                  </a:lnTo>
                  <a:lnTo>
                    <a:pt x="327" y="69"/>
                  </a:lnTo>
                  <a:lnTo>
                    <a:pt x="326" y="79"/>
                  </a:lnTo>
                  <a:lnTo>
                    <a:pt x="510" y="120"/>
                  </a:lnTo>
                  <a:lnTo>
                    <a:pt x="511" y="120"/>
                  </a:lnTo>
                  <a:lnTo>
                    <a:pt x="694" y="140"/>
                  </a:lnTo>
                  <a:lnTo>
                    <a:pt x="695" y="120"/>
                  </a:lnTo>
                  <a:lnTo>
                    <a:pt x="513" y="100"/>
                  </a:lnTo>
                  <a:lnTo>
                    <a:pt x="511" y="110"/>
                  </a:lnTo>
                  <a:lnTo>
                    <a:pt x="513" y="100"/>
                  </a:lnTo>
                  <a:lnTo>
                    <a:pt x="329" y="59"/>
                  </a:lnTo>
                  <a:lnTo>
                    <a:pt x="329" y="59"/>
                  </a:lnTo>
                  <a:lnTo>
                    <a:pt x="165" y="39"/>
                  </a:lnTo>
                  <a:lnTo>
                    <a:pt x="164" y="49"/>
                  </a:lnTo>
                  <a:lnTo>
                    <a:pt x="167" y="4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019240" y="4846680"/>
              <a:ext cx="552600" cy="63360"/>
            </a:xfrm>
            <a:custGeom>
              <a:avLst/>
              <a:gdLst/>
              <a:ahLst/>
              <a:rect l="l" t="t" r="r" b="b"/>
              <a:pathLst>
                <a:path w="695" h="81">
                  <a:moveTo>
                    <a:pt x="1" y="0"/>
                  </a:moveTo>
                  <a:lnTo>
                    <a:pt x="0" y="20"/>
                  </a:lnTo>
                  <a:lnTo>
                    <a:pt x="347" y="61"/>
                  </a:lnTo>
                  <a:lnTo>
                    <a:pt x="693" y="81"/>
                  </a:lnTo>
                  <a:lnTo>
                    <a:pt x="695" y="61"/>
                  </a:lnTo>
                  <a:lnTo>
                    <a:pt x="349" y="4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570040" y="4894200"/>
              <a:ext cx="552600" cy="49320"/>
            </a:xfrm>
            <a:custGeom>
              <a:avLst/>
              <a:gdLst/>
              <a:ahLst/>
              <a:rect l="l" t="t" r="r" b="b"/>
              <a:pathLst>
                <a:path w="695" h="63">
                  <a:moveTo>
                    <a:pt x="2" y="0"/>
                  </a:moveTo>
                  <a:lnTo>
                    <a:pt x="0" y="20"/>
                  </a:lnTo>
                  <a:lnTo>
                    <a:pt x="693" y="63"/>
                  </a:lnTo>
                  <a:lnTo>
                    <a:pt x="695" y="4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121200" y="4927680"/>
              <a:ext cx="550800" cy="48960"/>
            </a:xfrm>
            <a:custGeom>
              <a:avLst/>
              <a:gdLst/>
              <a:ahLst/>
              <a:rect l="l" t="t" r="r" b="b"/>
              <a:pathLst>
                <a:path w="695" h="61">
                  <a:moveTo>
                    <a:pt x="2" y="0"/>
                  </a:moveTo>
                  <a:lnTo>
                    <a:pt x="0" y="21"/>
                  </a:lnTo>
                  <a:lnTo>
                    <a:pt x="694" y="61"/>
                  </a:lnTo>
                  <a:lnTo>
                    <a:pt x="695" y="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670200" y="4960800"/>
              <a:ext cx="550800" cy="32040"/>
            </a:xfrm>
            <a:custGeom>
              <a:avLst/>
              <a:gdLst/>
              <a:ahLst/>
              <a:rect l="l" t="t" r="r" b="b"/>
              <a:pathLst>
                <a:path w="693" h="41">
                  <a:moveTo>
                    <a:pt x="0" y="0"/>
                  </a:moveTo>
                  <a:lnTo>
                    <a:pt x="0" y="20"/>
                  </a:lnTo>
                  <a:lnTo>
                    <a:pt x="693" y="41"/>
                  </a:lnTo>
                  <a:lnTo>
                    <a:pt x="693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81200" y="6170760"/>
              <a:ext cx="727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83720" y="6180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82640" y="5861160"/>
              <a:ext cx="712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83720" y="5872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11360" y="5553000"/>
              <a:ext cx="14256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13880" y="55641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09560" y="5243400"/>
              <a:ext cx="14436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13880" y="5254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11360" y="4935600"/>
              <a:ext cx="14256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13880" y="4946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11360" y="4626000"/>
              <a:ext cx="14256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13880" y="46371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11360" y="4317840"/>
              <a:ext cx="142560" cy="1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13880" y="4327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11360" y="4010040"/>
              <a:ext cx="14256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13880" y="4019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711360" y="3700440"/>
              <a:ext cx="14256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13880" y="37101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11360" y="3390840"/>
              <a:ext cx="14256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713880" y="3402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887400" y="6348240"/>
              <a:ext cx="7308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887040" y="6359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1405080" y="6348240"/>
              <a:ext cx="14256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404720" y="6359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924200" y="6348240"/>
              <a:ext cx="21240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1923480" y="63594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473200" y="6348240"/>
              <a:ext cx="21456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472480" y="63594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008160" y="6348240"/>
              <a:ext cx="21456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007800" y="63594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3557520" y="6348240"/>
              <a:ext cx="21456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556800" y="63594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106880" y="6348240"/>
              <a:ext cx="21420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106160" y="63594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657680" y="6348240"/>
              <a:ext cx="21420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656960" y="63594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582560" y="6527880"/>
              <a:ext cx="249588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954080" y="6535800"/>
              <a:ext cx="173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opper Production ('000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tpa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rot="16200000">
              <a:off x="-294480" y="4829760"/>
              <a:ext cx="1514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perating costs (US c/lb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591000" y="5208480"/>
              <a:ext cx="628560" cy="220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596400" y="5222880"/>
              <a:ext cx="4352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mel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465360" y="4653000"/>
              <a:ext cx="792360" cy="21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470040" y="4665600"/>
              <a:ext cx="54936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ydrom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920880" y="3473280"/>
              <a:ext cx="3852720" cy="277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920880" y="3473280"/>
              <a:ext cx="3852720" cy="27799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887400" y="6251400"/>
              <a:ext cx="651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887400" y="5943600"/>
              <a:ext cx="65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87400" y="5634000"/>
              <a:ext cx="651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887400" y="5326200"/>
              <a:ext cx="65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887400" y="5016600"/>
              <a:ext cx="65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887400" y="4707000"/>
              <a:ext cx="65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887400" y="4398840"/>
              <a:ext cx="651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887400" y="4089240"/>
              <a:ext cx="651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887400" y="3781440"/>
              <a:ext cx="65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887400" y="3473280"/>
              <a:ext cx="651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V="1">
              <a:off x="920880" y="6217920"/>
              <a:ext cx="1440" cy="6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V="1">
              <a:off x="1469880" y="6217920"/>
              <a:ext cx="1800" cy="6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V="1">
              <a:off x="2019240" y="6217920"/>
              <a:ext cx="1800" cy="6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V="1">
              <a:off x="2570040" y="6217920"/>
              <a:ext cx="1800" cy="6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V="1">
              <a:off x="3121200" y="6217920"/>
              <a:ext cx="1440" cy="6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V="1">
              <a:off x="3670200" y="6217920"/>
              <a:ext cx="1800" cy="6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V="1">
              <a:off x="4221000" y="6217920"/>
              <a:ext cx="1800" cy="6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V="1">
              <a:off x="4772160" y="6217920"/>
              <a:ext cx="1440" cy="6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025640" y="3763800"/>
              <a:ext cx="126720" cy="540000"/>
            </a:xfrm>
            <a:custGeom>
              <a:avLst/>
              <a:gdLst/>
              <a:ahLst/>
              <a:rect l="l" t="t" r="r" b="b"/>
              <a:pathLst>
                <a:path w="160" h="679">
                  <a:moveTo>
                    <a:pt x="18" y="0"/>
                  </a:moveTo>
                  <a:lnTo>
                    <a:pt x="0" y="2"/>
                  </a:lnTo>
                  <a:lnTo>
                    <a:pt x="20" y="166"/>
                  </a:lnTo>
                  <a:lnTo>
                    <a:pt x="20" y="168"/>
                  </a:lnTo>
                  <a:lnTo>
                    <a:pt x="62" y="332"/>
                  </a:lnTo>
                  <a:lnTo>
                    <a:pt x="71" y="329"/>
                  </a:lnTo>
                  <a:lnTo>
                    <a:pt x="62" y="330"/>
                  </a:lnTo>
                  <a:lnTo>
                    <a:pt x="82" y="515"/>
                  </a:lnTo>
                  <a:lnTo>
                    <a:pt x="82" y="517"/>
                  </a:lnTo>
                  <a:lnTo>
                    <a:pt x="143" y="679"/>
                  </a:lnTo>
                  <a:lnTo>
                    <a:pt x="160" y="673"/>
                  </a:lnTo>
                  <a:lnTo>
                    <a:pt x="99" y="510"/>
                  </a:lnTo>
                  <a:lnTo>
                    <a:pt x="91" y="513"/>
                  </a:lnTo>
                  <a:lnTo>
                    <a:pt x="101" y="513"/>
                  </a:lnTo>
                  <a:lnTo>
                    <a:pt x="81" y="329"/>
                  </a:lnTo>
                  <a:lnTo>
                    <a:pt x="81" y="327"/>
                  </a:lnTo>
                  <a:lnTo>
                    <a:pt x="38" y="163"/>
                  </a:lnTo>
                  <a:lnTo>
                    <a:pt x="28" y="164"/>
                  </a:lnTo>
                  <a:lnTo>
                    <a:pt x="38" y="16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139760" y="4299120"/>
              <a:ext cx="336600" cy="545760"/>
            </a:xfrm>
            <a:custGeom>
              <a:avLst/>
              <a:gdLst/>
              <a:ahLst/>
              <a:rect l="l" t="t" r="r" b="b"/>
              <a:pathLst>
                <a:path w="424" h="687">
                  <a:moveTo>
                    <a:pt x="17" y="0"/>
                  </a:moveTo>
                  <a:lnTo>
                    <a:pt x="0" y="8"/>
                  </a:lnTo>
                  <a:lnTo>
                    <a:pt x="81" y="193"/>
                  </a:lnTo>
                  <a:lnTo>
                    <a:pt x="83" y="193"/>
                  </a:lnTo>
                  <a:lnTo>
                    <a:pt x="165" y="357"/>
                  </a:lnTo>
                  <a:lnTo>
                    <a:pt x="165" y="360"/>
                  </a:lnTo>
                  <a:lnTo>
                    <a:pt x="287" y="543"/>
                  </a:lnTo>
                  <a:lnTo>
                    <a:pt x="410" y="687"/>
                  </a:lnTo>
                  <a:lnTo>
                    <a:pt x="424" y="672"/>
                  </a:lnTo>
                  <a:lnTo>
                    <a:pt x="300" y="528"/>
                  </a:lnTo>
                  <a:lnTo>
                    <a:pt x="179" y="345"/>
                  </a:lnTo>
                  <a:lnTo>
                    <a:pt x="172" y="352"/>
                  </a:lnTo>
                  <a:lnTo>
                    <a:pt x="181" y="347"/>
                  </a:lnTo>
                  <a:lnTo>
                    <a:pt x="98" y="182"/>
                  </a:lnTo>
                  <a:lnTo>
                    <a:pt x="89" y="188"/>
                  </a:lnTo>
                  <a:lnTo>
                    <a:pt x="98" y="18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467000" y="4830840"/>
              <a:ext cx="556920" cy="323640"/>
            </a:xfrm>
            <a:custGeom>
              <a:avLst/>
              <a:gdLst/>
              <a:ahLst/>
              <a:rect l="l" t="t" r="r" b="b"/>
              <a:pathLst>
                <a:path w="702" h="409">
                  <a:moveTo>
                    <a:pt x="12" y="0"/>
                  </a:moveTo>
                  <a:lnTo>
                    <a:pt x="0" y="17"/>
                  </a:lnTo>
                  <a:lnTo>
                    <a:pt x="162" y="141"/>
                  </a:lnTo>
                  <a:lnTo>
                    <a:pt x="162" y="141"/>
                  </a:lnTo>
                  <a:lnTo>
                    <a:pt x="325" y="243"/>
                  </a:lnTo>
                  <a:lnTo>
                    <a:pt x="327" y="244"/>
                  </a:lnTo>
                  <a:lnTo>
                    <a:pt x="511" y="326"/>
                  </a:lnTo>
                  <a:lnTo>
                    <a:pt x="693" y="409"/>
                  </a:lnTo>
                  <a:lnTo>
                    <a:pt x="702" y="390"/>
                  </a:lnTo>
                  <a:lnTo>
                    <a:pt x="519" y="307"/>
                  </a:lnTo>
                  <a:lnTo>
                    <a:pt x="335" y="226"/>
                  </a:lnTo>
                  <a:lnTo>
                    <a:pt x="330" y="234"/>
                  </a:lnTo>
                  <a:lnTo>
                    <a:pt x="335" y="226"/>
                  </a:lnTo>
                  <a:lnTo>
                    <a:pt x="172" y="124"/>
                  </a:lnTo>
                  <a:lnTo>
                    <a:pt x="167" y="133"/>
                  </a:lnTo>
                  <a:lnTo>
                    <a:pt x="174" y="1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017800" y="5140440"/>
              <a:ext cx="555480" cy="160200"/>
            </a:xfrm>
            <a:custGeom>
              <a:avLst/>
              <a:gdLst/>
              <a:ahLst/>
              <a:rect l="l" t="t" r="r" b="b"/>
              <a:pathLst>
                <a:path w="700" h="202">
                  <a:moveTo>
                    <a:pt x="7" y="0"/>
                  </a:moveTo>
                  <a:lnTo>
                    <a:pt x="0" y="19"/>
                  </a:lnTo>
                  <a:lnTo>
                    <a:pt x="164" y="80"/>
                  </a:lnTo>
                  <a:lnTo>
                    <a:pt x="165" y="80"/>
                  </a:lnTo>
                  <a:lnTo>
                    <a:pt x="349" y="120"/>
                  </a:lnTo>
                  <a:lnTo>
                    <a:pt x="351" y="110"/>
                  </a:lnTo>
                  <a:lnTo>
                    <a:pt x="349" y="120"/>
                  </a:lnTo>
                  <a:lnTo>
                    <a:pt x="695" y="202"/>
                  </a:lnTo>
                  <a:lnTo>
                    <a:pt x="700" y="183"/>
                  </a:lnTo>
                  <a:lnTo>
                    <a:pt x="354" y="102"/>
                  </a:lnTo>
                  <a:lnTo>
                    <a:pt x="353" y="100"/>
                  </a:lnTo>
                  <a:lnTo>
                    <a:pt x="169" y="59"/>
                  </a:lnTo>
                  <a:lnTo>
                    <a:pt x="167" y="69"/>
                  </a:lnTo>
                  <a:lnTo>
                    <a:pt x="171" y="6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568600" y="5284800"/>
              <a:ext cx="554040" cy="96840"/>
            </a:xfrm>
            <a:custGeom>
              <a:avLst/>
              <a:gdLst/>
              <a:ahLst/>
              <a:rect l="l" t="t" r="r" b="b"/>
              <a:pathLst>
                <a:path w="697" h="124">
                  <a:moveTo>
                    <a:pt x="4" y="0"/>
                  </a:moveTo>
                  <a:lnTo>
                    <a:pt x="0" y="21"/>
                  </a:lnTo>
                  <a:lnTo>
                    <a:pt x="348" y="83"/>
                  </a:lnTo>
                  <a:lnTo>
                    <a:pt x="350" y="83"/>
                  </a:lnTo>
                  <a:lnTo>
                    <a:pt x="695" y="124"/>
                  </a:lnTo>
                  <a:lnTo>
                    <a:pt x="697" y="104"/>
                  </a:lnTo>
                  <a:lnTo>
                    <a:pt x="351" y="63"/>
                  </a:lnTo>
                  <a:lnTo>
                    <a:pt x="350" y="73"/>
                  </a:lnTo>
                  <a:lnTo>
                    <a:pt x="351" y="6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119400" y="5365800"/>
              <a:ext cx="552600" cy="96840"/>
            </a:xfrm>
            <a:custGeom>
              <a:avLst/>
              <a:gdLst/>
              <a:ahLst/>
              <a:rect l="l" t="t" r="r" b="b"/>
              <a:pathLst>
                <a:path w="696" h="122">
                  <a:moveTo>
                    <a:pt x="3" y="0"/>
                  </a:moveTo>
                  <a:lnTo>
                    <a:pt x="0" y="20"/>
                  </a:lnTo>
                  <a:lnTo>
                    <a:pt x="347" y="81"/>
                  </a:lnTo>
                  <a:lnTo>
                    <a:pt x="349" y="81"/>
                  </a:lnTo>
                  <a:lnTo>
                    <a:pt x="695" y="122"/>
                  </a:lnTo>
                  <a:lnTo>
                    <a:pt x="696" y="101"/>
                  </a:lnTo>
                  <a:lnTo>
                    <a:pt x="351" y="61"/>
                  </a:lnTo>
                  <a:lnTo>
                    <a:pt x="349" y="71"/>
                  </a:lnTo>
                  <a:lnTo>
                    <a:pt x="351" y="6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670200" y="5446800"/>
              <a:ext cx="552600" cy="66600"/>
            </a:xfrm>
            <a:custGeom>
              <a:avLst/>
              <a:gdLst/>
              <a:ahLst/>
              <a:rect l="l" t="t" r="r" b="b"/>
              <a:pathLst>
                <a:path w="695" h="83">
                  <a:moveTo>
                    <a:pt x="1" y="0"/>
                  </a:moveTo>
                  <a:lnTo>
                    <a:pt x="0" y="21"/>
                  </a:lnTo>
                  <a:lnTo>
                    <a:pt x="346" y="61"/>
                  </a:lnTo>
                  <a:lnTo>
                    <a:pt x="693" y="83"/>
                  </a:lnTo>
                  <a:lnTo>
                    <a:pt x="695" y="63"/>
                  </a:lnTo>
                  <a:lnTo>
                    <a:pt x="347" y="4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027080" y="4427640"/>
              <a:ext cx="125280" cy="156960"/>
            </a:xfrm>
            <a:custGeom>
              <a:avLst/>
              <a:gdLst/>
              <a:ahLst/>
              <a:rect l="l" t="t" r="r" b="b"/>
              <a:pathLst>
                <a:path w="157" h="198">
                  <a:moveTo>
                    <a:pt x="16" y="0"/>
                  </a:moveTo>
                  <a:lnTo>
                    <a:pt x="0" y="10"/>
                  </a:lnTo>
                  <a:lnTo>
                    <a:pt x="21" y="51"/>
                  </a:lnTo>
                  <a:lnTo>
                    <a:pt x="22" y="54"/>
                  </a:lnTo>
                  <a:lnTo>
                    <a:pt x="64" y="95"/>
                  </a:lnTo>
                  <a:lnTo>
                    <a:pt x="70" y="87"/>
                  </a:lnTo>
                  <a:lnTo>
                    <a:pt x="61" y="90"/>
                  </a:lnTo>
                  <a:lnTo>
                    <a:pt x="81" y="153"/>
                  </a:lnTo>
                  <a:lnTo>
                    <a:pt x="83" y="156"/>
                  </a:lnTo>
                  <a:lnTo>
                    <a:pt x="85" y="158"/>
                  </a:lnTo>
                  <a:lnTo>
                    <a:pt x="145" y="198"/>
                  </a:lnTo>
                  <a:lnTo>
                    <a:pt x="157" y="181"/>
                  </a:lnTo>
                  <a:lnTo>
                    <a:pt x="97" y="141"/>
                  </a:lnTo>
                  <a:lnTo>
                    <a:pt x="90" y="149"/>
                  </a:lnTo>
                  <a:lnTo>
                    <a:pt x="100" y="148"/>
                  </a:lnTo>
                  <a:lnTo>
                    <a:pt x="80" y="85"/>
                  </a:lnTo>
                  <a:lnTo>
                    <a:pt x="76" y="80"/>
                  </a:lnTo>
                  <a:lnTo>
                    <a:pt x="76" y="80"/>
                  </a:lnTo>
                  <a:lnTo>
                    <a:pt x="34" y="39"/>
                  </a:lnTo>
                  <a:lnTo>
                    <a:pt x="27" y="46"/>
                  </a:lnTo>
                  <a:lnTo>
                    <a:pt x="36" y="4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143000" y="4572000"/>
              <a:ext cx="330120" cy="193680"/>
            </a:xfrm>
            <a:custGeom>
              <a:avLst/>
              <a:gdLst/>
              <a:ahLst/>
              <a:rect l="l" t="t" r="r" b="b"/>
              <a:pathLst>
                <a:path w="417" h="244">
                  <a:moveTo>
                    <a:pt x="12" y="0"/>
                  </a:moveTo>
                  <a:lnTo>
                    <a:pt x="0" y="17"/>
                  </a:lnTo>
                  <a:lnTo>
                    <a:pt x="81" y="78"/>
                  </a:lnTo>
                  <a:lnTo>
                    <a:pt x="164" y="139"/>
                  </a:lnTo>
                  <a:lnTo>
                    <a:pt x="166" y="141"/>
                  </a:lnTo>
                  <a:lnTo>
                    <a:pt x="287" y="202"/>
                  </a:lnTo>
                  <a:lnTo>
                    <a:pt x="287" y="202"/>
                  </a:lnTo>
                  <a:lnTo>
                    <a:pt x="410" y="244"/>
                  </a:lnTo>
                  <a:lnTo>
                    <a:pt x="417" y="226"/>
                  </a:lnTo>
                  <a:lnTo>
                    <a:pt x="294" y="183"/>
                  </a:lnTo>
                  <a:lnTo>
                    <a:pt x="291" y="192"/>
                  </a:lnTo>
                  <a:lnTo>
                    <a:pt x="296" y="183"/>
                  </a:lnTo>
                  <a:lnTo>
                    <a:pt x="174" y="122"/>
                  </a:lnTo>
                  <a:lnTo>
                    <a:pt x="169" y="131"/>
                  </a:lnTo>
                  <a:lnTo>
                    <a:pt x="176" y="122"/>
                  </a:lnTo>
                  <a:lnTo>
                    <a:pt x="93" y="6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469880" y="4749840"/>
              <a:ext cx="551160" cy="112680"/>
            </a:xfrm>
            <a:custGeom>
              <a:avLst/>
              <a:gdLst/>
              <a:ahLst/>
              <a:rect l="l" t="t" r="r" b="b"/>
              <a:pathLst>
                <a:path w="695" h="140">
                  <a:moveTo>
                    <a:pt x="5" y="0"/>
                  </a:moveTo>
                  <a:lnTo>
                    <a:pt x="0" y="18"/>
                  </a:lnTo>
                  <a:lnTo>
                    <a:pt x="162" y="59"/>
                  </a:lnTo>
                  <a:lnTo>
                    <a:pt x="164" y="59"/>
                  </a:lnTo>
                  <a:lnTo>
                    <a:pt x="327" y="79"/>
                  </a:lnTo>
                  <a:lnTo>
                    <a:pt x="327" y="69"/>
                  </a:lnTo>
                  <a:lnTo>
                    <a:pt x="326" y="79"/>
                  </a:lnTo>
                  <a:lnTo>
                    <a:pt x="510" y="120"/>
                  </a:lnTo>
                  <a:lnTo>
                    <a:pt x="511" y="120"/>
                  </a:lnTo>
                  <a:lnTo>
                    <a:pt x="694" y="140"/>
                  </a:lnTo>
                  <a:lnTo>
                    <a:pt x="695" y="120"/>
                  </a:lnTo>
                  <a:lnTo>
                    <a:pt x="513" y="100"/>
                  </a:lnTo>
                  <a:lnTo>
                    <a:pt x="511" y="110"/>
                  </a:lnTo>
                  <a:lnTo>
                    <a:pt x="513" y="100"/>
                  </a:lnTo>
                  <a:lnTo>
                    <a:pt x="329" y="59"/>
                  </a:lnTo>
                  <a:lnTo>
                    <a:pt x="329" y="59"/>
                  </a:lnTo>
                  <a:lnTo>
                    <a:pt x="165" y="39"/>
                  </a:lnTo>
                  <a:lnTo>
                    <a:pt x="164" y="49"/>
                  </a:lnTo>
                  <a:lnTo>
                    <a:pt x="167" y="4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019240" y="4846680"/>
              <a:ext cx="552600" cy="63360"/>
            </a:xfrm>
            <a:custGeom>
              <a:avLst/>
              <a:gdLst/>
              <a:ahLst/>
              <a:rect l="l" t="t" r="r" b="b"/>
              <a:pathLst>
                <a:path w="695" h="81">
                  <a:moveTo>
                    <a:pt x="1" y="0"/>
                  </a:moveTo>
                  <a:lnTo>
                    <a:pt x="0" y="20"/>
                  </a:lnTo>
                  <a:lnTo>
                    <a:pt x="347" y="61"/>
                  </a:lnTo>
                  <a:lnTo>
                    <a:pt x="693" y="81"/>
                  </a:lnTo>
                  <a:lnTo>
                    <a:pt x="695" y="61"/>
                  </a:lnTo>
                  <a:lnTo>
                    <a:pt x="349" y="4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570040" y="4894200"/>
              <a:ext cx="552600" cy="49320"/>
            </a:xfrm>
            <a:custGeom>
              <a:avLst/>
              <a:gdLst/>
              <a:ahLst/>
              <a:rect l="l" t="t" r="r" b="b"/>
              <a:pathLst>
                <a:path w="695" h="63">
                  <a:moveTo>
                    <a:pt x="2" y="0"/>
                  </a:moveTo>
                  <a:lnTo>
                    <a:pt x="0" y="20"/>
                  </a:lnTo>
                  <a:lnTo>
                    <a:pt x="693" y="63"/>
                  </a:lnTo>
                  <a:lnTo>
                    <a:pt x="695" y="4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121200" y="4927680"/>
              <a:ext cx="550800" cy="48960"/>
            </a:xfrm>
            <a:custGeom>
              <a:avLst/>
              <a:gdLst/>
              <a:ahLst/>
              <a:rect l="l" t="t" r="r" b="b"/>
              <a:pathLst>
                <a:path w="695" h="61">
                  <a:moveTo>
                    <a:pt x="2" y="0"/>
                  </a:moveTo>
                  <a:lnTo>
                    <a:pt x="0" y="21"/>
                  </a:lnTo>
                  <a:lnTo>
                    <a:pt x="694" y="61"/>
                  </a:lnTo>
                  <a:lnTo>
                    <a:pt x="695" y="4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670200" y="4960800"/>
              <a:ext cx="550800" cy="32040"/>
            </a:xfrm>
            <a:custGeom>
              <a:avLst/>
              <a:gdLst/>
              <a:ahLst/>
              <a:rect l="l" t="t" r="r" b="b"/>
              <a:pathLst>
                <a:path w="693" h="41">
                  <a:moveTo>
                    <a:pt x="0" y="0"/>
                  </a:moveTo>
                  <a:lnTo>
                    <a:pt x="0" y="20"/>
                  </a:lnTo>
                  <a:lnTo>
                    <a:pt x="693" y="41"/>
                  </a:lnTo>
                  <a:lnTo>
                    <a:pt x="693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81200" y="6170760"/>
              <a:ext cx="727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83720" y="6180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82640" y="5861160"/>
              <a:ext cx="712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83720" y="5872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11360" y="5553000"/>
              <a:ext cx="14256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13880" y="55641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09560" y="5243400"/>
              <a:ext cx="14436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13880" y="5254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11360" y="4935600"/>
              <a:ext cx="14256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13880" y="4946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11360" y="4626000"/>
              <a:ext cx="14256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13880" y="46371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11360" y="4317840"/>
              <a:ext cx="142560" cy="1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13880" y="4327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11360" y="4010040"/>
              <a:ext cx="14256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13880" y="4019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11360" y="3700440"/>
              <a:ext cx="14256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13880" y="37101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11360" y="3390840"/>
              <a:ext cx="14256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13880" y="3402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887400" y="6348240"/>
              <a:ext cx="7308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887040" y="6359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405080" y="6348240"/>
              <a:ext cx="14256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404720" y="6359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924200" y="6348240"/>
              <a:ext cx="21240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923480" y="63594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473200" y="6348240"/>
              <a:ext cx="21456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472480" y="63594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008160" y="6348240"/>
              <a:ext cx="21456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007800" y="63594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3557520" y="6348240"/>
              <a:ext cx="21456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556800" y="63594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106880" y="6348240"/>
              <a:ext cx="21420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106160" y="63594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657680" y="6348240"/>
              <a:ext cx="21420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656960" y="63594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582560" y="6527880"/>
              <a:ext cx="249588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618360" y="5700600"/>
              <a:ext cx="43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mel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592800" y="4692600"/>
              <a:ext cx="45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pru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1" name=""/>
          <p:cNvGrpSpPr/>
          <p:nvPr/>
        </p:nvGrpSpPr>
        <p:grpSpPr>
          <a:xfrm>
            <a:off x="-3240" y="3492360"/>
            <a:ext cx="4416480" cy="3086280"/>
            <a:chOff x="-3240" y="3492360"/>
            <a:chExt cx="4416480" cy="3086280"/>
          </a:xfrm>
        </p:grpSpPr>
        <p:sp>
          <p:nvSpPr>
            <p:cNvPr id="1352" name=""/>
            <p:cNvSpPr/>
            <p:nvPr/>
          </p:nvSpPr>
          <p:spPr>
            <a:xfrm>
              <a:off x="-3240" y="3492360"/>
              <a:ext cx="4416480" cy="308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741240" y="3740040"/>
              <a:ext cx="3291120" cy="208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41240" y="3740040"/>
              <a:ext cx="3291120" cy="2084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00200" y="5824440"/>
              <a:ext cx="41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700200" y="5564160"/>
              <a:ext cx="41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00200" y="5302080"/>
              <a:ext cx="41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700200" y="5041800"/>
              <a:ext cx="41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00200" y="4781520"/>
              <a:ext cx="41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00200" y="4521240"/>
              <a:ext cx="41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00200" y="4260960"/>
              <a:ext cx="41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00200" y="4000680"/>
              <a:ext cx="41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700200" y="3740040"/>
              <a:ext cx="41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V="1">
              <a:off x="741240" y="5824080"/>
              <a:ext cx="18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V="1">
              <a:off x="1687680" y="5824080"/>
              <a:ext cx="1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 flipV="1">
              <a:off x="2619360" y="5824080"/>
              <a:ext cx="1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V="1">
              <a:off x="3565440" y="5824080"/>
              <a:ext cx="18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V="1">
              <a:off x="836640" y="4630680"/>
              <a:ext cx="9540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V="1">
              <a:off x="932040" y="4343400"/>
              <a:ext cx="274320" cy="28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V="1">
              <a:off x="1206360" y="4164120"/>
              <a:ext cx="481320" cy="17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 flipV="1">
              <a:off x="1687680" y="4082760"/>
              <a:ext cx="46512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V="1">
              <a:off x="2152800" y="4013280"/>
              <a:ext cx="46656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V="1">
              <a:off x="2619360" y="3973680"/>
              <a:ext cx="46692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V="1">
              <a:off x="3086280" y="3944880"/>
              <a:ext cx="47916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V="1">
              <a:off x="836640" y="5097240"/>
              <a:ext cx="95400" cy="56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 flipV="1">
              <a:off x="932040" y="4520880"/>
              <a:ext cx="274320" cy="57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V="1">
              <a:off x="1206360" y="4164120"/>
              <a:ext cx="481320" cy="35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V="1">
              <a:off x="1687680" y="4000680"/>
              <a:ext cx="465120" cy="1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V="1">
              <a:off x="2152800" y="3890520"/>
              <a:ext cx="46656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V="1">
              <a:off x="2619360" y="3808080"/>
              <a:ext cx="46692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V="1">
              <a:off x="3086280" y="3753000"/>
              <a:ext cx="479160" cy="5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383400" y="57420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4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383400" y="54817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3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83400" y="52214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83400" y="49593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83400" y="46990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10400" y="44388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10400" y="41781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52160" y="39178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61600" y="3657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12440" y="5934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604160" y="59342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523600" y="59342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469680" y="59342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1274760" y="6167520"/>
              <a:ext cx="1735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pper Production ('000 tpa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 rot="16200000">
              <a:off x="-425520" y="4872600"/>
              <a:ext cx="1222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PV (US c per lb pa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867040" y="4071960"/>
              <a:ext cx="45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pru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134000" y="4863960"/>
              <a:ext cx="43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mel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"/>
          <p:cNvSpPr/>
          <p:nvPr/>
        </p:nvSpPr>
        <p:spPr>
          <a:xfrm>
            <a:off x="4006800" y="2108160"/>
            <a:ext cx="3314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4006800" y="2108160"/>
            <a:ext cx="1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006800" y="2108160"/>
            <a:ext cx="331488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4006800" y="2108160"/>
            <a:ext cx="1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006800" y="2108160"/>
            <a:ext cx="331488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1782720" y="2373480"/>
            <a:ext cx="9720" cy="18720"/>
          </a:xfrm>
          <a:custGeom>
            <a:avLst/>
            <a:gdLst/>
            <a:ahLst/>
            <a:rect l="l" t="t" r="r" b="b"/>
            <a:pathLst>
              <a:path w="6" h="12">
                <a:moveTo>
                  <a:pt x="6" y="0"/>
                </a:moveTo>
                <a:lnTo>
                  <a:pt x="6" y="0"/>
                </a:lnTo>
                <a:lnTo>
                  <a:pt x="6" y="12"/>
                </a:lnTo>
                <a:lnTo>
                  <a:pt x="0" y="6"/>
                </a:lnTo>
                <a:lnTo>
                  <a:pt x="6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2620800" y="3516480"/>
            <a:ext cx="38160" cy="9360"/>
          </a:xfrm>
          <a:custGeom>
            <a:avLst/>
            <a:gdLst/>
            <a:ahLst/>
            <a:rect l="l" t="t" r="r" b="b"/>
            <a:pathLst>
              <a:path w="24" h="6">
                <a:moveTo>
                  <a:pt x="12" y="0"/>
                </a:moveTo>
                <a:lnTo>
                  <a:pt x="24" y="6"/>
                </a:lnTo>
                <a:lnTo>
                  <a:pt x="0" y="6"/>
                </a:lnTo>
                <a:lnTo>
                  <a:pt x="0" y="6"/>
                </a:lnTo>
                <a:lnTo>
                  <a:pt x="12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2125800" y="4830840"/>
            <a:ext cx="9360" cy="19080"/>
          </a:xfrm>
          <a:custGeom>
            <a:avLst/>
            <a:gdLst/>
            <a:ahLst/>
            <a:rect l="l" t="t" r="r" b="b"/>
            <a:pathLst>
              <a:path w="6" h="12">
                <a:moveTo>
                  <a:pt x="6" y="6"/>
                </a:moveTo>
                <a:lnTo>
                  <a:pt x="0" y="0"/>
                </a:lnTo>
                <a:lnTo>
                  <a:pt x="0" y="12"/>
                </a:lnTo>
                <a:lnTo>
                  <a:pt x="0" y="12"/>
                </a:lnTo>
                <a:lnTo>
                  <a:pt x="6" y="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2125800" y="4840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6" y="0"/>
                </a:moveTo>
                <a:lnTo>
                  <a:pt x="18" y="6"/>
                </a:lnTo>
                <a:lnTo>
                  <a:pt x="0" y="6"/>
                </a:lnTo>
                <a:lnTo>
                  <a:pt x="0" y="6"/>
                </a:lnTo>
                <a:lnTo>
                  <a:pt x="6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2954160" y="4840200"/>
            <a:ext cx="2880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6" y="0"/>
                </a:moveTo>
                <a:lnTo>
                  <a:pt x="18" y="6"/>
                </a:lnTo>
                <a:lnTo>
                  <a:pt x="0" y="6"/>
                </a:lnTo>
                <a:lnTo>
                  <a:pt x="0" y="6"/>
                </a:lnTo>
                <a:lnTo>
                  <a:pt x="6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9" name=""/>
          <p:cNvGrpSpPr/>
          <p:nvPr/>
        </p:nvGrpSpPr>
        <p:grpSpPr>
          <a:xfrm>
            <a:off x="1332000" y="1243080"/>
            <a:ext cx="4564080" cy="4083120"/>
            <a:chOff x="1332000" y="1243080"/>
            <a:chExt cx="4564080" cy="4083120"/>
          </a:xfrm>
        </p:grpSpPr>
        <p:sp>
          <p:nvSpPr>
            <p:cNvPr id="1410" name=""/>
            <p:cNvSpPr/>
            <p:nvPr/>
          </p:nvSpPr>
          <p:spPr>
            <a:xfrm>
              <a:off x="1332000" y="1243080"/>
              <a:ext cx="4564080" cy="4083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209680" y="1488960"/>
              <a:ext cx="3303720" cy="31514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179440" y="4722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3141360" y="47228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093560" y="47228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083920" y="47228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214720" y="4052880"/>
              <a:ext cx="820440" cy="58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211480" y="3494160"/>
              <a:ext cx="1677960" cy="114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214720" y="2965320"/>
              <a:ext cx="2509560" cy="166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211480" y="2394000"/>
              <a:ext cx="3301920" cy="225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212920" y="1828800"/>
              <a:ext cx="3301920" cy="225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514600" y="1487520"/>
              <a:ext cx="2995560" cy="203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314880" y="1487520"/>
              <a:ext cx="2195280" cy="145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140360" y="1492200"/>
              <a:ext cx="13698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997520" y="1494000"/>
              <a:ext cx="512640" cy="38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2020680" y="4540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020680" y="4044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942920" y="3549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1942920" y="30542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942920" y="2558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942920" y="20541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1942920" y="15588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3071880" y="4932360"/>
              <a:ext cx="1471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pital Cost (US c/lb pa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rot="16200000">
              <a:off x="956520" y="3107520"/>
              <a:ext cx="1465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perating Cost (US c/lb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466880" y="1511280"/>
              <a:ext cx="43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167360" y="1816200"/>
              <a:ext cx="463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3839760" y="2114640"/>
              <a:ext cx="43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3566880" y="2481120"/>
              <a:ext cx="363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249360" y="285264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2859120" y="31813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2474640" y="347976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2157120" y="383868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343400" y="3274920"/>
              <a:ext cx="447840" cy="371520"/>
            </a:xfrm>
            <a:prstGeom prst="roundRect">
              <a:avLst>
                <a:gd name="adj" fmla="val 20514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562200" y="2851200"/>
              <a:ext cx="447840" cy="371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290840" y="3657600"/>
              <a:ext cx="96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mel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813120" y="2751120"/>
              <a:ext cx="113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pru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0" y="0"/>
            <a:ext cx="4645080" cy="3432240"/>
            <a:chOff x="0" y="0"/>
            <a:chExt cx="4645080" cy="3432240"/>
          </a:xfrm>
        </p:grpSpPr>
        <p:sp>
          <p:nvSpPr>
            <p:cNvPr id="93" name=""/>
            <p:cNvSpPr/>
            <p:nvPr/>
          </p:nvSpPr>
          <p:spPr>
            <a:xfrm>
              <a:off x="0" y="0"/>
              <a:ext cx="4645080" cy="3432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8600" y="338040"/>
              <a:ext cx="3763800" cy="25322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95360" y="1055520"/>
              <a:ext cx="3455640" cy="1815840"/>
              <a:chOff x="495360" y="1055520"/>
              <a:chExt cx="3455640" cy="1815840"/>
            </a:xfrm>
          </p:grpSpPr>
          <p:sp>
            <p:nvSpPr>
              <p:cNvPr id="96" name=""/>
              <p:cNvSpPr/>
              <p:nvPr/>
            </p:nvSpPr>
            <p:spPr>
              <a:xfrm>
                <a:off x="495360" y="2869920"/>
                <a:ext cx="25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20920" y="2869920"/>
                <a:ext cx="60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581760" y="2850840"/>
                <a:ext cx="6084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642600" y="2787120"/>
                <a:ext cx="60480" cy="6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703080" y="2651040"/>
                <a:ext cx="60480" cy="13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763920" y="2442960"/>
                <a:ext cx="60840" cy="20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824760" y="2197800"/>
                <a:ext cx="60480" cy="24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V="1">
                <a:off x="885240" y="1944360"/>
                <a:ext cx="60840" cy="25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946440" y="1717200"/>
                <a:ext cx="60480" cy="226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1006920" y="1527120"/>
                <a:ext cx="69840" cy="18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V="1">
                <a:off x="1076760" y="1380960"/>
                <a:ext cx="60480" cy="14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1137240" y="1289880"/>
                <a:ext cx="6084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1198440" y="1254960"/>
                <a:ext cx="60480" cy="3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1258920" y="1245240"/>
                <a:ext cx="60480" cy="1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19760" y="1245240"/>
                <a:ext cx="60840" cy="2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380600" y="1273680"/>
                <a:ext cx="60480" cy="53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441080" y="1327320"/>
                <a:ext cx="60840" cy="7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501920" y="1399680"/>
                <a:ext cx="60480" cy="82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562760" y="1482120"/>
                <a:ext cx="6048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623240" y="1572840"/>
                <a:ext cx="6084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84440" y="1663560"/>
                <a:ext cx="6048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44920" y="1753920"/>
                <a:ext cx="6048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05400" y="1845000"/>
                <a:ext cx="6084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866600" y="1935720"/>
                <a:ext cx="6048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927080" y="2016360"/>
                <a:ext cx="60840" cy="82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987920" y="2098440"/>
                <a:ext cx="61920" cy="7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049840" y="2170800"/>
                <a:ext cx="60840" cy="6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111040" y="2234880"/>
                <a:ext cx="6048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171520" y="2298600"/>
                <a:ext cx="60840" cy="53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232360" y="2352240"/>
                <a:ext cx="68040" cy="5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300760" y="2407680"/>
                <a:ext cx="60480" cy="4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361240" y="2453040"/>
                <a:ext cx="60840" cy="4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422080" y="2498400"/>
                <a:ext cx="60480" cy="3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482920" y="2534040"/>
                <a:ext cx="60840" cy="3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543760" y="2570760"/>
                <a:ext cx="61920" cy="26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605680" y="2597760"/>
                <a:ext cx="60840" cy="2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666880" y="2624760"/>
                <a:ext cx="60480" cy="26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727360" y="2651400"/>
                <a:ext cx="6084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788200" y="2670120"/>
                <a:ext cx="60480" cy="26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849040" y="2696760"/>
                <a:ext cx="6048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909520" y="2715480"/>
                <a:ext cx="608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970360" y="2725200"/>
                <a:ext cx="60480" cy="16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031200" y="2742120"/>
                <a:ext cx="60480" cy="1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091680" y="2752200"/>
                <a:ext cx="6084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152520" y="2770560"/>
                <a:ext cx="60480" cy="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213360" y="2778840"/>
                <a:ext cx="60840" cy="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274200" y="2787480"/>
                <a:ext cx="60480" cy="1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334680" y="2797560"/>
                <a:ext cx="60480" cy="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395520" y="2805840"/>
                <a:ext cx="608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456360" y="2805840"/>
                <a:ext cx="698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526200" y="2815920"/>
                <a:ext cx="60480" cy="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587040" y="2824200"/>
                <a:ext cx="604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647520" y="2824200"/>
                <a:ext cx="60840" cy="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08360" y="2832480"/>
                <a:ext cx="604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769200" y="2832480"/>
                <a:ext cx="608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830040" y="2832480"/>
                <a:ext cx="60480" cy="1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890520" y="2842920"/>
                <a:ext cx="60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375560" y="1055520"/>
                <a:ext cx="0" cy="181440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1593720" y="1347840"/>
              <a:ext cx="952560" cy="162000"/>
            </a:xfrm>
            <a:prstGeom prst="rightArrow">
              <a:avLst>
                <a:gd name="adj1" fmla="val 50000"/>
                <a:gd name="adj2" fmla="val 87274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8760" y="1028880"/>
              <a:ext cx="900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d new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581120" y="1042920"/>
              <a:ext cx="1009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ood new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0800000">
              <a:off x="657360" y="1334880"/>
              <a:ext cx="590400" cy="160200"/>
            </a:xfrm>
            <a:prstGeom prst="rightArrow">
              <a:avLst>
                <a:gd name="adj1" fmla="val 50000"/>
                <a:gd name="adj2" fmla="val 54701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03200" y="248292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[P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28880" y="3021120"/>
              <a:ext cx="1012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6200000">
              <a:off x="-511560" y="1443240"/>
              <a:ext cx="157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obability dens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6" name=""/>
          <p:cNvGrpSpPr/>
          <p:nvPr/>
        </p:nvGrpSpPr>
        <p:grpSpPr>
          <a:xfrm>
            <a:off x="4627440" y="3484440"/>
            <a:ext cx="4445280" cy="3300480"/>
            <a:chOff x="4627440" y="3484440"/>
            <a:chExt cx="4445280" cy="3300480"/>
          </a:xfrm>
        </p:grpSpPr>
        <p:sp>
          <p:nvSpPr>
            <p:cNvPr id="1447" name=""/>
            <p:cNvSpPr/>
            <p:nvPr/>
          </p:nvSpPr>
          <p:spPr>
            <a:xfrm>
              <a:off x="4627440" y="3484440"/>
              <a:ext cx="4445280" cy="3300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342040" y="3722760"/>
              <a:ext cx="3516120" cy="23479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305320" y="607068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305320" y="528336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305320" y="450864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305320" y="372276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 flipV="1">
              <a:off x="5342040" y="607032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V="1">
              <a:off x="5925960" y="607032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V="1">
              <a:off x="6510240" y="607032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V="1">
              <a:off x="7105680" y="607032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V="1">
              <a:off x="7689960" y="607032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V="1">
              <a:off x="8273880" y="607032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V="1">
              <a:off x="8858160" y="607032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342040" y="6070680"/>
              <a:ext cx="29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640480" y="6070680"/>
              <a:ext cx="285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925960" y="6070680"/>
              <a:ext cx="298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224760" y="607068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V="1">
              <a:off x="6605640" y="5795640"/>
              <a:ext cx="20160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V="1">
              <a:off x="6807240" y="5402160"/>
              <a:ext cx="29844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V="1">
              <a:off x="7105680" y="5009760"/>
              <a:ext cx="285840" cy="3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V="1">
              <a:off x="7391520" y="4627080"/>
              <a:ext cx="298440" cy="38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V="1">
              <a:off x="7689960" y="4235040"/>
              <a:ext cx="285480" cy="3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 flipV="1">
              <a:off x="7975440" y="3841560"/>
              <a:ext cx="29844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V="1">
              <a:off x="8273880" y="3722400"/>
              <a:ext cx="8604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V="1">
              <a:off x="5342040" y="6046920"/>
              <a:ext cx="29844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V="1">
              <a:off x="5640480" y="5962680"/>
              <a:ext cx="2854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 flipV="1">
              <a:off x="5925960" y="5843160"/>
              <a:ext cx="29880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V="1">
              <a:off x="6224760" y="5618160"/>
              <a:ext cx="38088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V="1">
              <a:off x="6605640" y="5473440"/>
              <a:ext cx="20160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V="1">
              <a:off x="6807240" y="5223960"/>
              <a:ext cx="298440" cy="24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V="1">
              <a:off x="7105680" y="4938480"/>
              <a:ext cx="28584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V="1">
              <a:off x="7391520" y="4603320"/>
              <a:ext cx="298440" cy="3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V="1">
              <a:off x="7689960" y="4235040"/>
              <a:ext cx="28548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V="1">
              <a:off x="7975440" y="3817800"/>
              <a:ext cx="298440" cy="41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 flipV="1">
              <a:off x="8273880" y="3722760"/>
              <a:ext cx="59040" cy="9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V="1">
              <a:off x="7958160" y="3927600"/>
              <a:ext cx="0" cy="21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175000" y="5986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5031720" y="52005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031720" y="44258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031720" y="36385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5304960" y="6178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5854320" y="6178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438600" y="6178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033680" y="6178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617960" y="6178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8202240" y="6178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8786520" y="6178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712200" y="6427800"/>
              <a:ext cx="730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C/RC Pr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rot="16200000">
              <a:off x="4698720" y="4830120"/>
              <a:ext cx="33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627440" y="3484440"/>
              <a:ext cx="4445280" cy="3300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7958160" y="5556240"/>
              <a:ext cx="72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xercise Price, P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900840" y="5562720"/>
              <a:ext cx="1057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rinsic Value  NPV = V(P)-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529240" y="5243400"/>
              <a:ext cx="1351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ption Value  F(P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0" name=""/>
          <p:cNvGrpSpPr/>
          <p:nvPr/>
        </p:nvGrpSpPr>
        <p:grpSpPr>
          <a:xfrm>
            <a:off x="58680" y="3483000"/>
            <a:ext cx="4437000" cy="3240000"/>
            <a:chOff x="58680" y="3483000"/>
            <a:chExt cx="4437000" cy="3240000"/>
          </a:xfrm>
        </p:grpSpPr>
        <p:sp>
          <p:nvSpPr>
            <p:cNvPr id="1501" name=""/>
            <p:cNvSpPr/>
            <p:nvPr/>
          </p:nvSpPr>
          <p:spPr>
            <a:xfrm>
              <a:off x="58680" y="3483000"/>
              <a:ext cx="4437000" cy="3240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878040" y="3720960"/>
              <a:ext cx="2977920" cy="22892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843120" y="601020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843120" y="567864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843120" y="535788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843120" y="502596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843120" y="470520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843120" y="437364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843120" y="405288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843120" y="372096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V="1">
              <a:off x="878040" y="601020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V="1">
              <a:off x="1376280" y="601020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V="1">
              <a:off x="1874880" y="601020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V="1">
              <a:off x="2360520" y="601020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V="1">
              <a:off x="2859120" y="601020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V="1">
              <a:off x="3357720" y="601020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V="1">
              <a:off x="3855960" y="601020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127160" y="4065480"/>
              <a:ext cx="249120" cy="94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376280" y="5013360"/>
              <a:ext cx="249480" cy="32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625760" y="5334120"/>
              <a:ext cx="249120" cy="15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874880" y="5487840"/>
              <a:ext cx="24912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124000" y="5583240"/>
              <a:ext cx="23652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360520" y="5643720"/>
              <a:ext cx="249480" cy="4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610000" y="5689440"/>
              <a:ext cx="24912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859120" y="5726160"/>
              <a:ext cx="24912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3108240" y="5749920"/>
              <a:ext cx="24948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819600" y="6010200"/>
              <a:ext cx="712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819600" y="5726160"/>
              <a:ext cx="71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819600" y="5440320"/>
              <a:ext cx="712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819600" y="5156280"/>
              <a:ext cx="71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819600" y="4871880"/>
              <a:ext cx="712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819600" y="4575240"/>
              <a:ext cx="71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3819600" y="4290840"/>
              <a:ext cx="712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3819600" y="4005360"/>
              <a:ext cx="71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819600" y="3720960"/>
              <a:ext cx="712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V="1">
              <a:off x="1127160" y="5156280"/>
              <a:ext cx="24912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V="1">
              <a:off x="1376280" y="5002200"/>
              <a:ext cx="249480" cy="15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 flipV="1">
              <a:off x="1625760" y="4858920"/>
              <a:ext cx="24912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V="1">
              <a:off x="1874880" y="4718160"/>
              <a:ext cx="249120" cy="14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 flipV="1">
              <a:off x="2124000" y="4586400"/>
              <a:ext cx="2365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V="1">
              <a:off x="2360520" y="4444560"/>
              <a:ext cx="24948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V="1">
              <a:off x="2610000" y="4301640"/>
              <a:ext cx="24912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 flipV="1">
              <a:off x="2859120" y="4158720"/>
              <a:ext cx="24912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V="1">
              <a:off x="3108240" y="4017960"/>
              <a:ext cx="249480" cy="14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21640" y="59277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711000" y="5595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69160" y="52754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461160" y="49435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461160" y="46227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61160" y="42908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461160" y="39704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461160" y="36385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782280" y="61167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1280880" y="61167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1779120" y="61167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2265120" y="61167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763360" y="61167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226680" y="61167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723480" y="61167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1755000" y="6365880"/>
              <a:ext cx="1125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venience Yiel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 rot="16200000">
              <a:off x="-168480" y="4781880"/>
              <a:ext cx="941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PV, US c/lb p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3949200" y="5927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949200" y="56437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3949200" y="5357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3949200" y="5073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3949200" y="4788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949200" y="44928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949200" y="42069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949200" y="3922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949200" y="36385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rot="16200000">
              <a:off x="3911400" y="478404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*, US c/l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8680" y="3483000"/>
              <a:ext cx="4437000" cy="32400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548080" y="5281560"/>
              <a:ext cx="1118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rinsic Value  NPV = V(P)-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2541600" y="4478400"/>
              <a:ext cx="72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xercise Price, P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776160" y="1044720"/>
            <a:ext cx="4567320" cy="3425760"/>
            <a:chOff x="776160" y="1044720"/>
            <a:chExt cx="4567320" cy="3425760"/>
          </a:xfrm>
        </p:grpSpPr>
        <p:sp>
          <p:nvSpPr>
            <p:cNvPr id="162" name=""/>
            <p:cNvSpPr/>
            <p:nvPr/>
          </p:nvSpPr>
          <p:spPr>
            <a:xfrm>
              <a:off x="776160" y="1044720"/>
              <a:ext cx="4567320" cy="3425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1555920" y="1528560"/>
              <a:ext cx="0" cy="10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555920" y="2046240"/>
              <a:ext cx="113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965240" y="2039760"/>
              <a:ext cx="519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55920" y="2048040"/>
              <a:ext cx="545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101680" y="1555920"/>
              <a:ext cx="490680" cy="490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6200000">
              <a:off x="1166760" y="1938240"/>
              <a:ext cx="561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70080" y="2602080"/>
              <a:ext cx="519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3530520" y="1528560"/>
              <a:ext cx="0" cy="10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30520" y="2046240"/>
              <a:ext cx="113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40200" y="2116080"/>
              <a:ext cx="519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530520" y="2048040"/>
              <a:ext cx="546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76640" y="2046240"/>
              <a:ext cx="49068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6200000">
              <a:off x="3141720" y="1938240"/>
              <a:ext cx="561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44680" y="2602080"/>
              <a:ext cx="519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1560600" y="2844720"/>
              <a:ext cx="0" cy="10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560600" y="3362400"/>
              <a:ext cx="113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69920" y="3375000"/>
              <a:ext cx="519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103480" y="3363840"/>
              <a:ext cx="546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1692000" y="2890800"/>
              <a:ext cx="414360" cy="47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16200000">
              <a:off x="1171440" y="3254040"/>
              <a:ext cx="561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74760" y="3917880"/>
              <a:ext cx="519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3530520" y="2844720"/>
              <a:ext cx="0" cy="10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30520" y="3362400"/>
              <a:ext cx="113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40200" y="3432240"/>
              <a:ext cx="519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87800" y="3363840"/>
              <a:ext cx="546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3642840" y="3357720"/>
              <a:ext cx="443160" cy="5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16200000">
              <a:off x="3141720" y="3254040"/>
              <a:ext cx="561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44680" y="3917880"/>
              <a:ext cx="519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d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41680" y="1935000"/>
              <a:ext cx="519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641680" y="3255840"/>
              <a:ext cx="519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608360" y="1944720"/>
              <a:ext cx="519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03680" y="3252960"/>
              <a:ext cx="519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55440" y="3487680"/>
            <a:ext cx="4451400" cy="3179880"/>
            <a:chOff x="55440" y="3487680"/>
            <a:chExt cx="4451400" cy="3179880"/>
          </a:xfrm>
        </p:grpSpPr>
        <p:sp>
          <p:nvSpPr>
            <p:cNvPr id="196" name=""/>
            <p:cNvSpPr/>
            <p:nvPr/>
          </p:nvSpPr>
          <p:spPr>
            <a:xfrm>
              <a:off x="55440" y="3487680"/>
              <a:ext cx="4451400" cy="31798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5280" y="3713040"/>
              <a:ext cx="3605040" cy="22780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1566720" y="5933880"/>
              <a:ext cx="17964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1746360" y="5854320"/>
              <a:ext cx="18072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1927080" y="5719320"/>
              <a:ext cx="17964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2106720" y="5540400"/>
              <a:ext cx="180720" cy="17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2287440" y="5325840"/>
              <a:ext cx="181080" cy="21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2468520" y="5100120"/>
              <a:ext cx="179280" cy="22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47800" y="4863600"/>
              <a:ext cx="18108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2828880" y="4614840"/>
              <a:ext cx="179280" cy="24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3008160" y="4367160"/>
              <a:ext cx="18108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189240" y="4119480"/>
              <a:ext cx="17928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3368520" y="3871800"/>
              <a:ext cx="18108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2106720" y="5742000"/>
              <a:ext cx="180720" cy="24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2287440" y="5482800"/>
              <a:ext cx="18108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2468520" y="5235480"/>
              <a:ext cx="17928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2647800" y="4976280"/>
              <a:ext cx="18108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2828880" y="4727520"/>
              <a:ext cx="179280" cy="24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3008160" y="4468320"/>
              <a:ext cx="18108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3189240" y="4221000"/>
              <a:ext cx="17928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3368520" y="3962520"/>
              <a:ext cx="181080" cy="25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119320" y="6329520"/>
              <a:ext cx="694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hare Pr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6200000">
              <a:off x="134640" y="4776120"/>
              <a:ext cx="30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5440" y="3487680"/>
              <a:ext cx="4451400" cy="31798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79600" y="5229360"/>
              <a:ext cx="97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yoff Val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49440" y="4172040"/>
              <a:ext cx="969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ice of Op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2684520" y="5351040"/>
              <a:ext cx="619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376360" y="4371840"/>
              <a:ext cx="77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92240" y="6021360"/>
              <a:ext cx="273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4633920" y="3490920"/>
            <a:ext cx="4440240" cy="3241800"/>
            <a:chOff x="4633920" y="3490920"/>
            <a:chExt cx="4440240" cy="3241800"/>
          </a:xfrm>
        </p:grpSpPr>
        <p:sp>
          <p:nvSpPr>
            <p:cNvPr id="226" name=""/>
            <p:cNvSpPr/>
            <p:nvPr/>
          </p:nvSpPr>
          <p:spPr>
            <a:xfrm>
              <a:off x="4633920" y="3490920"/>
              <a:ext cx="4440240" cy="324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400720" y="3733920"/>
              <a:ext cx="3452760" cy="2255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00720" y="3733920"/>
              <a:ext cx="3452760" cy="22557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354640" y="5989680"/>
              <a:ext cx="92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354640" y="5430960"/>
              <a:ext cx="92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354640" y="4862520"/>
              <a:ext cx="92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54640" y="4303800"/>
              <a:ext cx="92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354640" y="3733920"/>
              <a:ext cx="92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5400720" y="5943600"/>
              <a:ext cx="144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5889600" y="5943600"/>
              <a:ext cx="144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6388200" y="5943600"/>
              <a:ext cx="144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6877080" y="5943600"/>
              <a:ext cx="144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7377120" y="5943600"/>
              <a:ext cx="144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7864560" y="5943600"/>
              <a:ext cx="144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8364600" y="5943600"/>
              <a:ext cx="144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8853480" y="5943600"/>
              <a:ext cx="144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5446800" y="5976720"/>
              <a:ext cx="1983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5645160" y="5954760"/>
              <a:ext cx="24444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5889600" y="5895720"/>
              <a:ext cx="255600" cy="5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145200" y="5814720"/>
              <a:ext cx="2430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6388200" y="5769000"/>
              <a:ext cx="936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6481800" y="5699160"/>
              <a:ext cx="15084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6632640" y="5535720"/>
              <a:ext cx="244440" cy="1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6877080" y="5349960"/>
              <a:ext cx="255600" cy="18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7132680" y="5118120"/>
              <a:ext cx="244440" cy="23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7377120" y="4838760"/>
              <a:ext cx="24444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7621560" y="4524120"/>
              <a:ext cx="2430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7864560" y="4163760"/>
              <a:ext cx="24444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8109000" y="3768840"/>
              <a:ext cx="25560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8364600" y="3733560"/>
              <a:ext cx="1728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7137360" y="5548320"/>
              <a:ext cx="239760" cy="44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7377120" y="5105520"/>
              <a:ext cx="244440" cy="44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7621560" y="4664160"/>
              <a:ext cx="243000" cy="44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7864560" y="4211280"/>
              <a:ext cx="244440" cy="45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8109000" y="3768840"/>
              <a:ext cx="255600" cy="44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8364600" y="3733560"/>
              <a:ext cx="1908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202000" y="589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21000" y="53388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39640" y="47689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39640" y="42116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39640" y="36417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65440" y="6116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06800" y="6116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306840" y="6116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795720" y="6116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295760" y="6116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783200" y="6116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283240" y="6116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772120" y="6116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621120" y="6372360"/>
              <a:ext cx="1370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esent Value of Ass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6200000">
              <a:off x="4698720" y="4784040"/>
              <a:ext cx="33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633920" y="3490920"/>
              <a:ext cx="4440240" cy="324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7431120" y="5707080"/>
              <a:ext cx="41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797960" y="5568840"/>
              <a:ext cx="1079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PV = V(P) - 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110360" y="4583160"/>
              <a:ext cx="1800" cy="12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15200" y="4287960"/>
              <a:ext cx="130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rike price = 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375240" y="5435640"/>
              <a:ext cx="51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48240" y="5284800"/>
              <a:ext cx="107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ption Val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354800" y="5199120"/>
              <a:ext cx="0" cy="29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7423200" y="5383080"/>
              <a:ext cx="41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790040" y="5173560"/>
              <a:ext cx="1079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ption premiu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1706400" y="2154240"/>
            <a:ext cx="4567320" cy="3425760"/>
            <a:chOff x="1706400" y="2154240"/>
            <a:chExt cx="4567320" cy="3425760"/>
          </a:xfrm>
        </p:grpSpPr>
        <p:sp>
          <p:nvSpPr>
            <p:cNvPr id="288" name=""/>
            <p:cNvSpPr/>
            <p:nvPr/>
          </p:nvSpPr>
          <p:spPr>
            <a:xfrm>
              <a:off x="1706400" y="2154240"/>
              <a:ext cx="4567320" cy="3425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3360600" y="2746080"/>
              <a:ext cx="1252800" cy="90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360600" y="3651120"/>
              <a:ext cx="1252800" cy="91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035160" y="3444840"/>
              <a:ext cx="592200" cy="4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30680" y="2517840"/>
              <a:ext cx="14176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u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= max(Su-K,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630680" y="4371840"/>
              <a:ext cx="16081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= max(Sd-K,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348000" y="494028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48000" y="489420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29240" y="489420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38560" y="4995720"/>
              <a:ext cx="218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14760" y="4995720"/>
              <a:ext cx="219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698400" y="846000"/>
            <a:ext cx="6891480" cy="5629320"/>
            <a:chOff x="698400" y="846000"/>
            <a:chExt cx="6891480" cy="5629320"/>
          </a:xfrm>
        </p:grpSpPr>
        <p:sp>
          <p:nvSpPr>
            <p:cNvPr id="300" name=""/>
            <p:cNvSpPr/>
            <p:nvPr/>
          </p:nvSpPr>
          <p:spPr>
            <a:xfrm>
              <a:off x="698400" y="846000"/>
              <a:ext cx="6891480" cy="5629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135080" y="3287880"/>
              <a:ext cx="59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305080" y="3546360"/>
              <a:ext cx="40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200">
              <a:off x="2306160" y="2763720"/>
              <a:ext cx="37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473120" y="3425760"/>
              <a:ext cx="5261040" cy="213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68600" y="3000240"/>
              <a:ext cx="4164120" cy="174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635280" y="2575080"/>
              <a:ext cx="30974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695840" y="2149560"/>
              <a:ext cx="203688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1479600" y="1333440"/>
              <a:ext cx="5253120" cy="20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2548080" y="2181240"/>
              <a:ext cx="4187520" cy="168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3645000" y="3018960"/>
              <a:ext cx="3103560" cy="128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4718160" y="3863520"/>
              <a:ext cx="2014560" cy="88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5769000" y="4749480"/>
              <a:ext cx="963720" cy="42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753160" y="1724040"/>
              <a:ext cx="97956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200">
              <a:off x="3390480" y="231948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332160" y="3151080"/>
              <a:ext cx="59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200">
              <a:off x="3390480" y="399564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1200">
              <a:off x="4525560" y="2751120"/>
              <a:ext cx="37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200">
              <a:off x="4476240" y="188748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1200">
              <a:off x="5495400" y="146844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1200">
              <a:off x="6471720" y="102384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1200">
              <a:off x="4525560" y="3576600"/>
              <a:ext cx="37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1200">
              <a:off x="4476240" y="447192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1200">
              <a:off x="5495400" y="232884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37080" y="3160800"/>
              <a:ext cx="59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1200">
              <a:off x="5495400" y="400536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1200">
              <a:off x="5495400" y="490392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1200">
              <a:off x="6543360" y="2741760"/>
              <a:ext cx="37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200">
              <a:off x="6494040" y="187812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1200">
              <a:off x="6543360" y="3567240"/>
              <a:ext cx="37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200">
              <a:off x="6494040" y="446256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1200">
              <a:off x="6494040" y="529272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463760" y="5792760"/>
              <a:ext cx="526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543040" y="573876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316160" y="5896080"/>
              <a:ext cx="295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561000" y="5896080"/>
              <a:ext cx="343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614760" y="573876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718160" y="573876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783400" y="573876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732720" y="573876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469880" y="573876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401920" y="5896080"/>
              <a:ext cx="295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460680" y="5896080"/>
              <a:ext cx="295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67320" y="5896080"/>
              <a:ext cx="295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35800" y="5896080"/>
              <a:ext cx="295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"/>
          <p:cNvGrpSpPr/>
          <p:nvPr/>
        </p:nvGrpSpPr>
        <p:grpSpPr>
          <a:xfrm>
            <a:off x="698400" y="846000"/>
            <a:ext cx="7793280" cy="5629320"/>
            <a:chOff x="698400" y="846000"/>
            <a:chExt cx="7793280" cy="5629320"/>
          </a:xfrm>
        </p:grpSpPr>
        <p:sp>
          <p:nvSpPr>
            <p:cNvPr id="346" name=""/>
            <p:cNvSpPr/>
            <p:nvPr/>
          </p:nvSpPr>
          <p:spPr>
            <a:xfrm>
              <a:off x="698400" y="846000"/>
              <a:ext cx="7793280" cy="5629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135080" y="3287880"/>
              <a:ext cx="59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05080" y="3546360"/>
              <a:ext cx="40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1200">
              <a:off x="2306160" y="2763720"/>
              <a:ext cx="37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473120" y="3425760"/>
              <a:ext cx="5261040" cy="213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568600" y="3000240"/>
              <a:ext cx="4164120" cy="174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635280" y="2575080"/>
              <a:ext cx="30974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95840" y="2149560"/>
              <a:ext cx="2036880" cy="86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1479600" y="1333440"/>
              <a:ext cx="5253120" cy="20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2548080" y="2181240"/>
              <a:ext cx="4187520" cy="168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3645000" y="3018960"/>
              <a:ext cx="3103560" cy="128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4718160" y="3863520"/>
              <a:ext cx="2014560" cy="88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5769000" y="4749480"/>
              <a:ext cx="963720" cy="42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753160" y="1724040"/>
              <a:ext cx="97956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1200">
              <a:off x="3390480" y="231948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332160" y="3151080"/>
              <a:ext cx="59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1200">
              <a:off x="3390480" y="399564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1200">
              <a:off x="4525560" y="2751120"/>
              <a:ext cx="37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1200">
              <a:off x="4476240" y="188748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1200">
              <a:off x="5495400" y="146844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1200">
              <a:off x="6471720" y="102384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1200">
              <a:off x="4525560" y="3576600"/>
              <a:ext cx="37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1200">
              <a:off x="4476240" y="447192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1200">
              <a:off x="5495400" y="232884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437080" y="3160800"/>
              <a:ext cx="59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1200">
              <a:off x="5495400" y="400536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1200">
              <a:off x="5495400" y="490392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1200">
              <a:off x="6543360" y="2741760"/>
              <a:ext cx="37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1200">
              <a:off x="6494040" y="187812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1200">
              <a:off x="6543360" y="3567240"/>
              <a:ext cx="37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1200">
              <a:off x="6494040" y="446256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1200">
              <a:off x="6494040" y="529272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63760" y="5792760"/>
              <a:ext cx="526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543040" y="573876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316160" y="5896080"/>
              <a:ext cx="295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561000" y="5896080"/>
              <a:ext cx="343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614760" y="573876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718160" y="573876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783400" y="573876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732720" y="573876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469880" y="573876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401920" y="5896080"/>
              <a:ext cx="295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460680" y="5896080"/>
              <a:ext cx="295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567320" y="5896080"/>
              <a:ext cx="295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35800" y="5896080"/>
              <a:ext cx="295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904440" y="1190520"/>
              <a:ext cx="1284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= max(Su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K,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904440" y="2036880"/>
              <a:ext cx="1284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= max(Su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K,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900480" y="2882880"/>
              <a:ext cx="1235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= max(Su-K,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900480" y="3728880"/>
              <a:ext cx="1235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= max(Sd-K,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904440" y="4575240"/>
              <a:ext cx="1284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= max(Sd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K,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904440" y="5423040"/>
              <a:ext cx="1284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= max(Sd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K,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894280" y="1569960"/>
              <a:ext cx="409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938920" y="244620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954680" y="200988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"/>
          <p:cNvGrpSpPr/>
          <p:nvPr/>
        </p:nvGrpSpPr>
        <p:grpSpPr>
          <a:xfrm>
            <a:off x="58680" y="58680"/>
            <a:ext cx="4443480" cy="3230640"/>
            <a:chOff x="58680" y="58680"/>
            <a:chExt cx="4443480" cy="3230640"/>
          </a:xfrm>
        </p:grpSpPr>
        <p:sp>
          <p:nvSpPr>
            <p:cNvPr id="401" name=""/>
            <p:cNvSpPr/>
            <p:nvPr/>
          </p:nvSpPr>
          <p:spPr>
            <a:xfrm>
              <a:off x="58680" y="58680"/>
              <a:ext cx="4443480" cy="3230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3960" y="291960"/>
              <a:ext cx="3568680" cy="22971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87240" y="258912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87240" y="235584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87240" y="213516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7240" y="190188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87240" y="166860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87240" y="143496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87240" y="121284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87240" y="97956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87240" y="74628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87240" y="52560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7240" y="29196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723960" y="258876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1317600" y="258876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1913040" y="258876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2508120" y="258876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3102120" y="258876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3697200" y="258876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4292640" y="258876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23960" y="291960"/>
              <a:ext cx="593640" cy="1084320"/>
            </a:xfrm>
            <a:custGeom>
              <a:avLst/>
              <a:gdLst/>
              <a:ahLst/>
              <a:rect l="l" t="t" r="r" b="b"/>
              <a:pathLst>
                <a:path w="374" h="683">
                  <a:moveTo>
                    <a:pt x="0" y="0"/>
                  </a:moveTo>
                  <a:lnTo>
                    <a:pt x="95" y="176"/>
                  </a:lnTo>
                  <a:lnTo>
                    <a:pt x="183" y="360"/>
                  </a:lnTo>
                  <a:lnTo>
                    <a:pt x="279" y="529"/>
                  </a:lnTo>
                  <a:lnTo>
                    <a:pt x="330" y="610"/>
                  </a:lnTo>
                  <a:lnTo>
                    <a:pt x="374" y="683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317600" y="1376280"/>
              <a:ext cx="595440" cy="676440"/>
            </a:xfrm>
            <a:custGeom>
              <a:avLst/>
              <a:gdLst/>
              <a:ahLst/>
              <a:rect l="l" t="t" r="r" b="b"/>
              <a:pathLst>
                <a:path w="375" h="426">
                  <a:moveTo>
                    <a:pt x="0" y="0"/>
                  </a:moveTo>
                  <a:lnTo>
                    <a:pt x="96" y="132"/>
                  </a:lnTo>
                  <a:lnTo>
                    <a:pt x="184" y="243"/>
                  </a:lnTo>
                  <a:lnTo>
                    <a:pt x="279" y="345"/>
                  </a:lnTo>
                  <a:lnTo>
                    <a:pt x="375" y="42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13040" y="2052720"/>
              <a:ext cx="595080" cy="315720"/>
            </a:xfrm>
            <a:custGeom>
              <a:avLst/>
              <a:gdLst/>
              <a:ahLst/>
              <a:rect l="l" t="t" r="r" b="b"/>
              <a:pathLst>
                <a:path w="375" h="199">
                  <a:moveTo>
                    <a:pt x="0" y="0"/>
                  </a:moveTo>
                  <a:lnTo>
                    <a:pt x="95" y="66"/>
                  </a:lnTo>
                  <a:lnTo>
                    <a:pt x="184" y="118"/>
                  </a:lnTo>
                  <a:lnTo>
                    <a:pt x="279" y="162"/>
                  </a:lnTo>
                  <a:lnTo>
                    <a:pt x="375" y="19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508120" y="2368440"/>
              <a:ext cx="594000" cy="139680"/>
            </a:xfrm>
            <a:custGeom>
              <a:avLst/>
              <a:gdLst/>
              <a:ahLst/>
              <a:rect l="l" t="t" r="r" b="b"/>
              <a:pathLst>
                <a:path w="374" h="88">
                  <a:moveTo>
                    <a:pt x="0" y="0"/>
                  </a:moveTo>
                  <a:lnTo>
                    <a:pt x="95" y="29"/>
                  </a:lnTo>
                  <a:lnTo>
                    <a:pt x="183" y="51"/>
                  </a:lnTo>
                  <a:lnTo>
                    <a:pt x="374" y="8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102120" y="2508120"/>
              <a:ext cx="595080" cy="59040"/>
            </a:xfrm>
            <a:custGeom>
              <a:avLst/>
              <a:gdLst/>
              <a:ahLst/>
              <a:rect l="l" t="t" r="r" b="b"/>
              <a:pathLst>
                <a:path w="375" h="37">
                  <a:moveTo>
                    <a:pt x="0" y="0"/>
                  </a:moveTo>
                  <a:lnTo>
                    <a:pt x="184" y="22"/>
                  </a:lnTo>
                  <a:lnTo>
                    <a:pt x="375" y="3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697200" y="2567160"/>
              <a:ext cx="595440" cy="10800"/>
            </a:xfrm>
            <a:custGeom>
              <a:avLst/>
              <a:gdLst/>
              <a:ahLst/>
              <a:rect l="l" t="t" r="r" b="b"/>
              <a:pathLst>
                <a:path w="375" h="7">
                  <a:moveTo>
                    <a:pt x="0" y="0"/>
                  </a:moveTo>
                  <a:lnTo>
                    <a:pt x="184" y="7"/>
                  </a:lnTo>
                  <a:lnTo>
                    <a:pt x="375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23960" y="2919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23960" y="291960"/>
              <a:ext cx="593640" cy="115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317600" y="1446120"/>
              <a:ext cx="59544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913040" y="2589120"/>
              <a:ext cx="595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508120" y="2589120"/>
              <a:ext cx="5940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102120" y="2589120"/>
              <a:ext cx="595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697200" y="2589120"/>
              <a:ext cx="595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292640" y="2589120"/>
              <a:ext cx="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0160" y="2508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55040" y="2274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55040" y="20527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55040" y="1819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55040" y="15858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60160" y="135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55040" y="1131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55040" y="8985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55040" y="6652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55040" y="4428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60160" y="209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86880" y="2693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282320" y="2693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877760" y="2693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472840" y="2693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031920" y="2693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627000" y="2693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222440" y="2693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760400" y="2940120"/>
              <a:ext cx="1413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nderlying Asset Val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16200000">
              <a:off x="126720" y="1370880"/>
              <a:ext cx="33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8680" y="58680"/>
              <a:ext cx="4443480" cy="32306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43040" y="2185920"/>
              <a:ext cx="1079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rinsic Val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709640" y="1395360"/>
              <a:ext cx="130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rike price = 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106720" y="2009880"/>
              <a:ext cx="1079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ption Val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1925640" y="1652760"/>
              <a:ext cx="68400" cy="87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07:41:10Z</dcterms:created>
  <dc:creator>Frank Crundwell</dc:creator>
  <dc:description/>
  <dc:language>en-US</dc:language>
  <cp:lastModifiedBy>frank crundwell</cp:lastModifiedBy>
  <dcterms:modified xsi:type="dcterms:W3CDTF">2007-08-16T17:08:38Z</dcterms:modified>
  <cp:revision>29</cp:revision>
  <dc:subject/>
  <dc:title>PowerPoint Presentation</dc:title>
</cp:coreProperties>
</file>